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7DE-C318-49F8-A871-8AB01189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028-9994-4315-B945-2C85D71B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F451-67DB-4DD4-AED7-3D4F3A1B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F8D-F79C-4BB3-8A6E-1B143C41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A17A-C999-42A6-915F-AE8F95AD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56AD-9A95-499C-ADDF-552D0AFC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FFBA-C833-4E5B-9843-61141266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D249-41CC-438F-A490-40EDB0FA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48D7-F174-4C48-B533-702DEF5D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280E-582F-4FDE-B678-15D4DEEE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F86F-B3B5-4FF4-AF61-2B9CF067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FEE-BED9-459D-B39B-9A7D1C92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098A-8C1B-4A27-AD2E-6AED66C6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5D60-DE1F-42EC-83E3-2CDAE02E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5DC5-5F5F-4DDE-B3AD-24950776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794E-5E6D-462C-BC97-9356399E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1065-E5F7-49B4-A5C8-AB0EF430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FD3-897C-4342-B04A-B0EF2FDB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4BD-8CA0-459F-91BC-D809F7A4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E78-7568-4C7A-AA3A-6AF6BA8F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A3ED-D021-4162-8DED-B3281705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E53-DDC4-4169-AA8C-3B481793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372-01AC-41B5-8218-02E3605A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6C20-2507-470F-987C-B1D24357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4d4d4d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575863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4d4d4d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4d4d4d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4d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39ea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bd894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D074-0A71-4F46-A023-A07CFEA6102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4d4d4d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575863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4d4d4d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50000">
                  <a:srgbClr val="4d4d4d"/>
                </a:gs>
                <a:gs pos="100000">
                  <a:srgbClr val="5758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4d4d4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575863"/>
                </a:gs>
                <a:gs pos="100000">
                  <a:srgbClr val="4d4d4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0B60-923D-4DAB-8386-1B5526B2EA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2394720"/>
            <a:ext cx="82249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س</a:t>
            </a: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) إذا كانت سعة قرص قلم التخزين 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USB Flash</a:t>
            </a:r>
            <a:r>
              <a:rPr b="0" lang="en-US" sz="20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 هي </a:t>
            </a: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2/1</a:t>
            </a: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 ج.بايت,و باعتبار أن كل بايت يمثل حرفاً هجائيا أو رقما ، وأن الكلمة تتكون عادة من ثمانية حروف. فكم عدد الكلمات التي يمكن تخزينها على القرص؟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س</a:t>
            </a: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) أكملي الفراغات التالية بالوحدة المناسبة</a:t>
            </a:r>
            <a:r>
              <a:rPr b="0" lang="ar-SA" sz="2000" spc="-1" strike="noStrike">
                <a:solidFill>
                  <a:srgbClr val="0099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....................يعتبر أصغر مقيا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....................يمث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02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باي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.....................يمث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02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102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102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102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باي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......................عبارة عن ثمانية أرقام ثنائ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-229680"/>
            <a:ext cx="831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ورقة عمل(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cs typeface="Times New Roman"/>
              </a:rPr>
              <a:t>الاسم:                                                                                                    الصف:الأول ثانوي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قت التنفيذ: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دقائق.                                                                         طريقة التنفيذ: مجموعة                             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كونة من طالبتي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هدف التنفي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- تحسب سعة تخزين قرص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- تميز بين سعات التخزين المختلف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6280"/>
            <a:ext cx="1441440" cy="1297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112536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42160" y="12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8:28:34Z</dcterms:created>
  <dc:creator>GhAdA</dc:creator>
  <dc:description/>
  <dc:language>en-US</dc:language>
  <cp:lastModifiedBy>GhAdA</cp:lastModifiedBy>
  <dcterms:modified xsi:type="dcterms:W3CDTF">2005-09-28T01:34:54Z</dcterms:modified>
  <cp:revision>196</cp:revision>
  <dc:subject/>
  <dc:title>الباب الثاني مكونات الحاسب وإدخال البيانات</dc:title>
</cp:coreProperties>
</file>