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E58-B860-4A8E-96DF-05010665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B3D-CB8E-4A44-8124-42F5F993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6CA-AE59-4CD0-8642-D7B3CD7A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564B-02D9-4E32-9DD9-E4C556B9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96F-7C85-4CCA-BE1B-9CB7B2D8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041-4CA8-4D5D-89B5-C99ADE18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4BD-9D7B-46DD-80D8-CAFE5C1E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FDA-9219-4809-9C33-2D0F330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719-4A57-44B1-8279-424E9D0B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B89-52B4-452F-8CDA-BAF090D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E0B-4D35-461D-8F49-26411EF8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B7E-C1E0-4DD9-A738-436EDD6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BE80-2E30-4902-B8A0-C5E35C74B6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4179960"/>
            <a:ext cx="3162240" cy="1409760"/>
          </a:xfrm>
          <a:prstGeom prst="wedgeEllipseCallout">
            <a:avLst>
              <a:gd name="adj1" fmla="val -73592"/>
              <a:gd name="adj2" fmla="val 51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إنه عصرنا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هل تعلمين معنى ذلك...؟؟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اتجهي للأعلى...واكتبي.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5600" y="715320"/>
            <a:ext cx="881280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Al-Hadith1"/>
                <a:cs typeface="Times New Roman"/>
              </a:rPr>
              <a:t>ورقة عمل(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Hadith1"/>
                <a:ea typeface="Times New Roman"/>
              </a:rPr>
              <a:t>1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l-Hadith1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cs typeface="Times New Roman"/>
              </a:rPr>
              <a:t>الاسم:                                                                                           الصف:الأول ثانوي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cs typeface="Times New Roman"/>
              </a:rPr>
              <a:t>وقت التنفيذ:</a:t>
            </a:r>
            <a:r>
              <a:rPr b="0" lang="ar-SA" sz="2000" spc="-1" strike="noStrike">
                <a:solidFill>
                  <a:srgbClr val="000000"/>
                </a:solidFill>
                <a:latin typeface="FS_Graphic"/>
                <a:ea typeface="Times New Roman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FS_Graphic"/>
                <a:cs typeface="Times New Roman"/>
              </a:rPr>
              <a:t>دقائق.                                                                      طريقة التنفيذ:فردي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cs typeface="Times New Roman"/>
              </a:rPr>
              <a:t>هدف التنفيذ:لفت انتباه الطالبات لمعنى عصر الحاسب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ea typeface="Times New Roman"/>
              </a:rPr>
              <a:t>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S_Graphic"/>
                <a:cs typeface="Times New Roman"/>
              </a:rPr>
              <a:t>عصر الحاسب....هو عصرنا الذي أضحينا فيه الآن....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S_Graphic"/>
                <a:cs typeface="Times New Roman"/>
              </a:rPr>
              <a:t>طالبتي العزيز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FS_Graphic"/>
                <a:cs typeface="Times New Roman"/>
              </a:rPr>
              <a:t>فسري معنى العبارة السابقة فيما لا يزيد عن سطرين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ea typeface="Times New Roman"/>
              </a:rPr>
              <a:t>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FS_Graphic"/>
                <a:ea typeface="Times New Roman"/>
              </a:rPr>
              <a:t>..............................................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5157720"/>
            <a:ext cx="152712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j0286034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914400" cy="100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5280" y="-229320"/>
            <a:ext cx="831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ورقة عمل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الاسم:                                                                                           الصف:الأول ثانو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وقت التنفيذ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1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دقائق.                                                                         طريقة التنفيذ:فر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FS_Graphic"/>
              </a:rPr>
              <a:t>هدف التنفي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- تعرف الحاسب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.تعدد الطالبة أنواع الحاسب  الشخصي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.تبين سبب تسمية كل من الحاسب (المنزلي- المحمو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FS_Graphic"/>
              </a:rPr>
              <a:t>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616040"/>
            <a:ext cx="82249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FS_Graphic"/>
              </a:rPr>
              <a:t>طالبتي المنقذة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FS_Graphic"/>
              </a:rPr>
              <a:t>مع امتناني الشديد احتاج إليك لتجيبي عن الأسئلة التي تثير التساؤل وتسبب الحيرة لورقتي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FS_Graphic"/>
              </a:rPr>
              <a:t>عرفي الحاسب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)عددي أنواع الحاسب الشخصي؟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)"لكل إنسان حظ من اسمه" ولي صديقتان إحداهما تدعى (الحاسب المنزلي) والأخرى تدعى(الحاسب المحمول)............... ترى ما هو الحظ(الجزء) الذي اكتسباه من اسميهما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5157720"/>
            <a:ext cx="1527120" cy="1700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32000" y="5837400"/>
            <a:ext cx="3025800" cy="1020600"/>
          </a:xfrm>
          <a:prstGeom prst="wedgeEllipseCallout">
            <a:avLst>
              <a:gd name="adj1" fmla="val -57134"/>
              <a:gd name="adj2" fmla="val -69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أنا أدعى( الحاسب المنزلي)...هل رأيت أختي...(الحاسب المحمول)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" spc="-1" strike="noStrike">
                <a:solidFill>
                  <a:srgbClr val="000000"/>
                </a:solidFill>
                <a:latin typeface="Arial"/>
              </a:rPr>
              <a:t>لا بد أنها تبحث عما اكتسبته من اسمها...أرجوك إذا عثرتي عليها ساعديها..............!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29200" y="2286000"/>
            <a:ext cx="26290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الاسم: الحاسب الشخصي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ستخدمي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ها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قدرة المعالجة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43280" y="2286000"/>
            <a:ext cx="262872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الاسم: محطة العم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ستخدمي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ها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قدرة المعالجة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236232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19240" y="236232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8560" y="3809880"/>
            <a:ext cx="26290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الاسم: الحاسب الخاد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ستخدمي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ها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قدرة المعالجة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809880"/>
            <a:ext cx="262908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الاسم: الحاسب المرك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ستخدمين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عدد المها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000080"/>
                </a:solidFill>
                <a:latin typeface="Arial"/>
                <a:cs typeface="Times New Roman"/>
              </a:rPr>
              <a:t>قدرة المعالجة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266840" y="373680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96252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-215640"/>
            <a:ext cx="8339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ورقة عمل(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3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الاسم:                                                                                           الصف:الأول ثانوي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وقت التنفيذ: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8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دقائق.                                                                      طريقة التنفيذ:فردي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هدف التنفيذ: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1</a:t>
            </a: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. معرفة الفرق بين (الحاسب الشخصي ومحطة العمل)-وبين الحاسب المتوسط والمركزي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طالبتي الفاضلة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لديك بطاقات أحوال يجب أن تستخدمي ذاكرتك لتكملي فراغاتها ويستطيع أصحابها استخدمها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هلاّ تتفضلين وتكمليها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331280" y="347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331280" y="3551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860000"/>
            <a:ext cx="7508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cs typeface="FS_Graphic"/>
              </a:rPr>
              <a:t>طالبتي...هل تعرفت على الأخت الصغرى لأصحاب البطاقات السابقة وتدعى (حاسب التحكم)..اعتقد ذلك ..هل يمكن أن تساعدي ورقتي فقط بإخبارها عن أماكن تواجدها الدائم..........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Arial"/>
                <a:ea typeface="FS_Graphic"/>
              </a:rPr>
              <a:t>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3962520"/>
            <a:ext cx="343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433520"/>
            <a:ext cx="857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طالبتي المتميزة:مستعينة بالله أجيبي عن الأسئلة التالي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عددي أهم خواص الحاسب الآلي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ما المقصود بـ(أحادي المهام والاستخدام)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- انسبي كل مما يلي لنوع الحاسب الذي ينتمي إليه (حاسب مركزي-حاسب متوسط-حاسب شخصي-حاسب محمول – حاسب تحكم – محطة عمل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إدارة الجوازات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السيار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المهند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وزارة المعار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حاسب جامعة الملك عبد العزي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485640" y="-65160"/>
            <a:ext cx="916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رقة عمل(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الاسم:                                                                                           الصف:االأول ثانو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وقت التنفيذ: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دقائق.                                                                      طريقة التنفيذ:فر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هدف التنفيذ:التغذية الراجع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52:41Z</dcterms:created>
  <dc:creator>Ghadah</dc:creator>
  <dc:description/>
  <dc:language>en-US</dc:language>
  <cp:lastModifiedBy>GhAdA</cp:lastModifiedBy>
  <dcterms:modified xsi:type="dcterms:W3CDTF">2005-09-25T17:32:48Z</dcterms:modified>
  <cp:revision>63</cp:revision>
  <dc:subject/>
  <dc:title>مقدمة في الحاسب والمعلومات</dc:title>
</cp:coreProperties>
</file>