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60F-2D51-4163-971E-F1F4152D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FEC-5274-4BAA-B2D6-9C5E82EA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360-414A-43AE-90AC-EFE76AAD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85B-A0B6-4B23-AA32-79021AF2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265-BD72-4BE7-A6B2-5E3E108B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8526-48A3-49EA-BACF-CE3CF7C9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93B-F83F-4E5A-80D4-73AC06E9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A69-1A63-4DB0-8CF8-35A585D6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FFE-B165-4793-932B-A79C3F0C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4AC5-A6A2-44B2-9AA4-2DD3161B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B5F-C164-4B8F-A2A0-2E806EAB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0E6-D0AA-4411-8841-9412FED5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7C60-1458-424B-8A7B-2C81CD6D5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9160" y="2558520"/>
            <a:ext cx="8958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8486c"/>
                </a:solidFill>
                <a:uFillTx/>
                <a:latin typeface="Comic Sans MS"/>
                <a:cs typeface="Shurooq 07"/>
              </a:rPr>
              <a:t>طالبتي النجيبة قومي بتنفيذ الخطوات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1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شئي مجلد في القرص الصلب 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C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 يحمل اسم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2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شئي مجلد يحمل لقبك داخل المجلد الساب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3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شئي ملف اسمه ( صورتي) ونوعه (صورة) داخل الملف الذي يحمل لقب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4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غيري سمة ملف الصورة الذي انشأته واجعليه مخفيا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5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جعلي الملف المخفي مرئي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0720" y="-120240"/>
            <a:ext cx="831528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ورقة عمل (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1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الاسم:                                                                                            الصف:الأول ثان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وقت التنفيذ: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3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 دقائق.                                                                         طريقة التنفيذ: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cs typeface="Shurooq 07"/>
              </a:rPr>
              <a:t>فرد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cs typeface="Shurooq 07"/>
              </a:rPr>
              <a:t>هدف التنفي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1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انشاء مجلد .   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	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2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الانتقال عبر المجلدات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3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انشاء ملف            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4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تغيير سمات ملف أو مجلدا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9160" y="2373480"/>
            <a:ext cx="8958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8486c"/>
                </a:solidFill>
                <a:uFillTx/>
                <a:latin typeface="Comic Sans MS"/>
                <a:cs typeface="Shurooq 07"/>
              </a:rPr>
              <a:t>طالبتي النجيبة قومي بتنفيذ الخطوات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1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شئي مجلد في القرص الصلب 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C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 وسميه (مادة الحاسب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2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شئي اختصار لمجلد (مادة الحاسب) ،وضعيه على سطح المكت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3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شئي مجلد آخر وسميه (معمل الحاسب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4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قلي المجلد الثاني داخل المجلد الأو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5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ضعي نسخة أخرى لمجلد ( معمل الحاسب) بداخل مجلد ( مادة الحاسب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6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قومي بإعادة تسمية نسخة المجلد ليصبح 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(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LAB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7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قومي بحذف المجلد المسمى (معمل الحاسب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0720" y="-120240"/>
            <a:ext cx="831528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ورقة عمل (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1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الاسم:                                                                                            الصف:الأول ثان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وقت التنفيذ: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3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 دقائق.                                                                         طريقة التنفيذ: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cs typeface="Shurooq 07"/>
              </a:rPr>
              <a:t>فرد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cs typeface="Shurooq 07"/>
              </a:rPr>
              <a:t>هدف التنفي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1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نسخ مجلد .   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	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2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نقل مجلد .                  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3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تغيير اسم مجلد أو مل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4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حذف ملف أو مجلد </a:t>
            </a:r>
            <a:r>
              <a:rPr b="0" lang="en-US" sz="2000" spc="-1" strike="noStrike">
                <a:solidFill>
                  <a:srgbClr val="48486c"/>
                </a:solidFill>
                <a:latin typeface="Arial"/>
                <a:ea typeface="Shurooq 07"/>
              </a:rPr>
              <a:t>   </a:t>
            </a:r>
            <a:r>
              <a:rPr b="0" lang="en-US" sz="2000" spc="-1" strike="noStrike">
                <a:solidFill>
                  <a:srgbClr val="48486c"/>
                </a:solidFill>
                <a:latin typeface="Arial"/>
                <a:ea typeface="Shurooq 07"/>
              </a:rPr>
              <a:t>	</a:t>
            </a:r>
            <a:r>
              <a:rPr b="0" lang="en-US" sz="2000" spc="-1" strike="noStrike">
                <a:solidFill>
                  <a:srgbClr val="48486c"/>
                </a:solidFill>
                <a:latin typeface="Arial"/>
                <a:ea typeface="Shurooq 07"/>
              </a:rPr>
              <a:t>	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5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القدرة على انشاء الاختصار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9160" y="2777760"/>
            <a:ext cx="8958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 u="sng">
                <a:solidFill>
                  <a:srgbClr val="48486c"/>
                </a:solidFill>
                <a:uFillTx/>
                <a:latin typeface="Comic Sans MS"/>
                <a:cs typeface="Shurooq 07"/>
              </a:rPr>
              <a:t>طالبتي النجيبة قومي بتنفيذ الخطوات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1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حضري قرص مرن جد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2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قومي بعملية التجهيز لهذا القر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3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قومي بإرسال ملفات معينة من القرص الثابت إلى القرص المر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4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سخي المجلد الموجود في القرص المرن إلى سطح المكت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5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سخي محتويات قرص مرن إلى قرص مرن آخ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0720" y="-120240"/>
            <a:ext cx="831528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ورقة عمل (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1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الاسم:                                                                                            الصف:الأول ثان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وقت التنفيذ: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3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 دقائق.                                                                         طريقة التنفيذ: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cs typeface="Shurooq 07"/>
              </a:rPr>
              <a:t>فرد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cs typeface="Shurooq 07"/>
              </a:rPr>
              <a:t>هدف التنفي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1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استعراض محتويات قرص .   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	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2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نسخ محتوى قرص إلى آخر .         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3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تجهيز القرص المرن لتهيئته للاستخدا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9160" y="2616480"/>
            <a:ext cx="895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48486c"/>
                </a:solidFill>
                <a:uFillTx/>
                <a:latin typeface="Comic Sans MS"/>
                <a:cs typeface="Shurooq 07"/>
              </a:rPr>
              <a:t>طالبتي النجيبة قومي بتنفيذ الخطوات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1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شغلي برنامج (الرسام) من خلال قائمة (كافة البرامج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2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انشئي اختصار على سطح المكتب لبرنامج الرسا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3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شغلي برنامج 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MS-Word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 من خلال الأمر تشغي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4</a:t>
            </a:r>
            <a:r>
              <a:rPr b="0" lang="ar-SA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- أضيفي اختصار داخل قائمة (ابدأ) لبرنامج </a:t>
            </a:r>
            <a:r>
              <a:rPr b="0" lang="en-US" sz="2400" spc="-1" strike="noStrike">
                <a:solidFill>
                  <a:srgbClr val="48486c"/>
                </a:solidFill>
                <a:latin typeface="Comic Sans MS"/>
                <a:ea typeface="Shurooq 07"/>
              </a:rPr>
              <a:t>Intern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720" y="32400"/>
            <a:ext cx="831528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ورقة عمل (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1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الاسم:                                                                                            الصف:الأول ثانو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8486c"/>
                </a:solidFill>
                <a:latin typeface="Arial"/>
                <a:cs typeface="Shurooq 07"/>
              </a:rPr>
              <a:t>وقت التنفيذ: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3</a:t>
            </a:r>
            <a:r>
              <a:rPr b="0" lang="ar-SA" sz="2400" spc="-1" strike="noStrike">
                <a:solidFill>
                  <a:srgbClr val="48486c"/>
                </a:solidFill>
                <a:latin typeface="Arial"/>
                <a:ea typeface="Shurooq 07"/>
              </a:rPr>
              <a:t> دقائق.                                                                         طريقة التنفيذ: 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cs typeface="Shurooq 07"/>
              </a:rPr>
              <a:t>فرد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cs typeface="Shurooq 07"/>
              </a:rPr>
              <a:t>هدف التنفي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1</a:t>
            </a:r>
            <a:r>
              <a:rPr b="0" lang="ar-SA" sz="2000" spc="-1" strike="noStrike">
                <a:solidFill>
                  <a:srgbClr val="48486c"/>
                </a:solidFill>
                <a:latin typeface="Arial"/>
                <a:ea typeface="Shurooq 07"/>
              </a:rPr>
              <a:t>- تشغيل بعض البرمجيات التطبيقية 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23:52:41Z</dcterms:created>
  <dc:creator>Ghadah</dc:creator>
  <dc:description/>
  <dc:language>en-US</dc:language>
  <cp:lastModifiedBy>GhAdA</cp:lastModifiedBy>
  <dcterms:modified xsi:type="dcterms:W3CDTF">2005-10-15T22:59:22Z</dcterms:modified>
  <cp:revision>113</cp:revision>
  <dc:subject/>
  <dc:title>مقدمة في الحاسب والمعلومات</dc:title>
</cp:coreProperties>
</file>