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8E5-7F3E-4D36-8CD6-B8F56651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8C5-E603-4C3E-A47E-9762D879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568-D8E9-4CCB-9A04-D5F3EAFB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AEF-5074-40A2-B7B2-24C8F85E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F88-F919-4669-B2D2-A584F19B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BE7-3E9F-4EA8-BBC9-4836E5FD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9CC-717E-427F-BE1D-EBD69AA7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C15-9583-46B3-9D4B-8F900885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8ED-6101-47E4-8BC2-2D8810CF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99E-E798-49C7-BC99-AD623CE1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34F-DAC8-4B91-AFA6-1291046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7FA-5AFC-41DD-AAE1-04A3F143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03D3-8810-48AF-BDD7-78DA7764DE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-1182600"/>
            <a:ext cx="8458200" cy="90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ورقة عمل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Hor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Hor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الاسم:                                                                                           الصف:الأول ثان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وقت التنفيذ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Hor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دقائق.                                                                      طريقة التنفيذ:فر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هدف التنفيذ:أن تعرف الطالبة كلاً من (البيانات- المعلومات )، تعدد مزايا المعلومات المستخلصة بالحاس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Ho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Hor"/>
              </a:rPr>
              <a:t>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طالبت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هل يمكنك مساعدة صديقاتي في التعريف عن أنفسهن لورقتي..لقد سبق لك التعرف عليهن..وانت الوحيدة التي تستطيعين الشرح لورقتي فعرفيها عليهن......  شاكرة لك مساعدتك 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صديقتي الأولى :البيانات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L-Hor"/>
              </a:rPr>
              <a:t>..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صديقتي الثانية:المعلومات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اذكري اثنين من مزايا المعلومات المستخلصة بالحاس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Hor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j0286034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914400" cy="100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-107640"/>
            <a:ext cx="831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hurooq 07"/>
              </a:rPr>
              <a:t>ورقة عمل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hurooq 07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hurooq 07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hurooq 07"/>
              </a:rPr>
              <a:t>الاسم:                                                                                           الصف:الأول ثان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hurooq 07"/>
              </a:rPr>
              <a:t>وقت التنفيذ  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hurooq 07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hurooq 07"/>
              </a:rPr>
              <a:t> دقائق .                                                                      طريقة التنفيذ:فر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hurooq 07"/>
              </a:rPr>
              <a:t>هدف التنفيذ:أن تذكر الطالبة طريقة تمثيل البيانات في الحاس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757160"/>
            <a:ext cx="82245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hurooq 07"/>
              </a:rPr>
              <a:t>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hurooq 07"/>
              </a:rPr>
              <a:t>طالبت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hurooq 07"/>
              </a:rPr>
              <a:t>هل يمكنك مساعدة صديقتك  في التعريف عن طريقة تمثيل البيانات في الحاسب؟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hurooq 07"/>
              </a:rPr>
              <a:t>والمقصود بالبايت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hurooq 07"/>
              </a:rPr>
              <a:t>.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hurooq 07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hurooq 07"/>
              </a:rPr>
              <a:t>شاكرة لكِ مساعدت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1527120" cy="170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23:52:41Z</dcterms:created>
  <dc:creator>Ghadah</dc:creator>
  <dc:description/>
  <dc:language>en-US</dc:language>
  <cp:lastModifiedBy>GhAdA</cp:lastModifiedBy>
  <dcterms:modified xsi:type="dcterms:W3CDTF">2005-09-28T02:08:47Z</dcterms:modified>
  <cp:revision>86</cp:revision>
  <dc:subject/>
  <dc:title>مقدمة في الحاسب والمعلومات</dc:title>
</cp:coreProperties>
</file>