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drumroll.wav" ContentType="audio/x-wav"/>
  <Override PartName="/ppt/media/applause.wav" ContentType="audio/x-wav"/>
  <Override PartName="/ppt/media/cashreg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F6A5-C106-4809-A13B-E9A601F5402E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7D5B-93E3-4641-8C15-6511369B872F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FE7E-627B-4339-A6B0-B97F13E70783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D871-C225-4407-8AA3-B53E98423C40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6858-F86F-42FE-AB9C-B1FF9D1CA6E8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B67-54A1-4259-BD82-6E8720E1AEDA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C07B-8867-47A8-8458-95D3C54DF0C4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89CB-4455-4F8E-A12A-CBECEB79A907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82F-0432-4F7F-9098-81C27D1AA362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5EC-9808-4FB2-AA8A-12FC3F60773F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D7E-AA71-4F51-8234-B22B15E7CCE5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A857-4175-49A4-B327-CC53958299EA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5B1-CCA1-48BC-8420-32FC4E7A4A62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C34-254F-4B24-8F1F-D563932E31E9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52BF-C948-49E8-B4C1-29069C3A1D02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FC0-6ADD-4772-AB80-BAB67C15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EC5-AC26-491C-AD73-5B542F82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D6C-6A5E-4CF6-A1DB-DE765D60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CE0-085D-4D04-83DB-349066EC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8F0-3E7D-43A9-9385-CD96A69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1C9-2C95-4DE1-A9B1-D9A8F70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C81-61C2-44DD-A399-6DD3E5F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349-62EE-4813-AF09-E5EA49D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72F-2B3A-4DAC-9DF1-ACFD5C5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B23-825A-4121-8B34-9CB3AF8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F18-76E3-4CCE-8653-F0430E5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DD4-03C7-4839-8C4E-4170B2A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3F7-BBA0-44B3-91BF-9849359FCE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200" spc="-1" strike="noStrike">
                <a:solidFill>
                  <a:srgbClr val="cc3300"/>
                </a:solidFill>
                <a:latin typeface="Arial"/>
                <a:cs typeface="AL-Mohanad Black"/>
              </a:rPr>
              <a:t>الحال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3300"/>
                </a:solidFill>
                <a:latin typeface="Arial"/>
                <a:cs typeface="AL-Mohanad Black"/>
              </a:rPr>
              <a:t>ملاحظ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AL-Mohanad Black"/>
              </a:rPr>
              <a:t>إذا كان صاحب الحال جمع غير عاقل ،يجوز فيه أن تأتي الحال على وجه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908000" y="2319480"/>
            <a:ext cx="547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lack"/>
              </a:rPr>
              <a:t>الوجه الأول :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جمع مؤنث سالم فيقال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900000" y="3182760"/>
            <a:ext cx="7488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( وضعت الكتب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مرتباتٍ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) ( أهديت الزهراتِ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منسقاتٍ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979640" y="4119480"/>
            <a:ext cx="54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lack"/>
              </a:rPr>
              <a:t>الوجه الثاني :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مفرد مؤنث فيقال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00000" y="5199120"/>
            <a:ext cx="7488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( وضعت الكتب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مرتبةً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) ( أهديت الزهراتِ </a:t>
            </a:r>
            <a:r>
              <a:rPr b="0" lang="ar-SA" sz="3200" spc="-1" strike="noStrike">
                <a:solidFill>
                  <a:srgbClr val="991e09"/>
                </a:solidFill>
                <a:latin typeface="Arial"/>
                <a:cs typeface="AL-Mohanad Black"/>
              </a:rPr>
              <a:t>منسقة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lack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68360" y="83664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1476360" y="33336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نموذج إعرا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6877080" y="1371600"/>
            <a:ext cx="179856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كلم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877080" y="2208240"/>
            <a:ext cx="1798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يحبّ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6877080" y="3068640"/>
            <a:ext cx="179856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الناس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6877080" y="4800600"/>
            <a:ext cx="1798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أمينً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6877080" y="3936960"/>
            <a:ext cx="179856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التاجر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324000" y="1344600"/>
            <a:ext cx="626256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إعرابه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324000" y="4800600"/>
            <a:ext cx="6262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AL-Mohanad Black"/>
              </a:rPr>
              <a:t>حال منصوب وعلامة نصبه الفتحة الظاهرة على آخره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324000" y="3936960"/>
            <a:ext cx="626256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lack"/>
              </a:rPr>
              <a:t>مفعول به منصوب وعلامة نصبه الفتحة الظاهرة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324000" y="3071880"/>
            <a:ext cx="626256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lack"/>
              </a:rPr>
              <a:t>فاعل مرفوع وعلامة رفعه الضمة الظاهرة على آخره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325440" y="2208240"/>
            <a:ext cx="6262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AL-Mohanad Black"/>
              </a:rPr>
              <a:t>فعل مضارع مرفوع وعلامة رفعه الضمة الظاهرة على آخر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468360" y="549360"/>
            <a:ext cx="79912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cc3300"/>
                </a:solidFill>
                <a:latin typeface="Arial"/>
                <a:cs typeface="AL-Mohanad Black"/>
              </a:rPr>
              <a:t>ملخص </a:t>
            </a:r>
            <a:endParaRPr b="1" lang="en-US" sz="14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cc3300"/>
                </a:solidFill>
                <a:latin typeface="Arial"/>
                <a:cs typeface="AL-Mohanad Black"/>
              </a:rPr>
              <a:t>الدرس</a:t>
            </a:r>
            <a:endParaRPr b="1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39640" y="2205000"/>
          <a:ext cx="8282160" cy="792360"/>
        </p:xfrm>
        <a:graphic>
          <a:graphicData uri="http://schemas.openxmlformats.org/drawingml/2006/table">
            <a:tbl>
              <a:tblPr/>
              <a:tblGrid>
                <a:gridCol w="8282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99"/>
                          </a:solidFill>
                          <a:latin typeface="Arial"/>
                          <a:cs typeface="AL-Mohanad Black"/>
                        </a:rPr>
                        <a:t>صاحب الحال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: اسم تبين الحال حالته أو هيأته ، وهو معرفة دائمًا 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22"/>
          <p:cNvSpPr/>
          <p:nvPr/>
        </p:nvSpPr>
        <p:spPr>
          <a:xfrm>
            <a:off x="468360" y="1123920"/>
            <a:ext cx="828036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  <a:cs typeface="AL-Mohanad"/>
              </a:rPr>
              <a:t>الحال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L-Mohanad"/>
              </a:rPr>
              <a:t>اسم نكرة منصوب يبين حالة أو هيأة صاحبه عند وقوع الفع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971640" y="3213000"/>
            <a:ext cx="705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08080"/>
                </a:solidFill>
                <a:latin typeface="Arial"/>
                <a:cs typeface="AL-Mohanad Black"/>
              </a:rPr>
              <a:t>الحال تطابق صاحبها في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4932360" y="4079880"/>
            <a:ext cx="381636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Arial"/>
                <a:ea typeface="AL-Mohanad Black"/>
              </a:rPr>
              <a:t>- الإفراد أو التثنية أو الجمع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39640" y="4076640"/>
            <a:ext cx="338472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Arial"/>
                <a:ea typeface="AL-Mohanad Black"/>
              </a:rPr>
              <a:t>- التذكير أو التأنيث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2484360" y="4994280"/>
            <a:ext cx="3816360" cy="1434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lack"/>
              </a:rPr>
              <a:t>الحال دائمًا منصو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87640" y="404640"/>
          <a:ext cx="2664000" cy="64008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991e09"/>
                          </a:solidFill>
                          <a:latin typeface="Arial"/>
                          <a:cs typeface="AL-Mohanad Black"/>
                        </a:rPr>
                        <a:t>الخلاصة</a:t>
                      </a:r>
                      <a:r>
                        <a:rPr b="0" lang="ar-SA" sz="32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468360" y="549360"/>
            <a:ext cx="7991280" cy="74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9999"/>
                </a:solidFill>
                <a:latin typeface="Arial"/>
                <a:cs typeface="AL-Mohanad Black"/>
              </a:rPr>
              <a:t>شكرًا لكم أبنائي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9999"/>
                </a:solidFill>
                <a:latin typeface="Arial"/>
                <a:cs typeface="AL-Mohanad Black"/>
              </a:rPr>
              <a:t>شكرًا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9999"/>
                </a:solidFill>
                <a:latin typeface="Arial"/>
                <a:cs typeface="AL-Mohanad Black"/>
              </a:rPr>
              <a:t>بندر الشريف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682560" y="18900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9900"/>
                </a:solidFill>
                <a:latin typeface="Arial"/>
                <a:cs typeface="AL-Mohanad"/>
              </a:rPr>
              <a:t>أولاً :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AL-Mohanad"/>
              </a:rPr>
              <a:t> التعريف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r>
              <a:rPr b="0" lang="ar-SA" sz="6000" spc="-1" strike="noStrike">
                <a:solidFill>
                  <a:srgbClr val="cc3300"/>
                </a:solidFill>
                <a:latin typeface="Arial"/>
                <a:cs typeface="AL-Mohanad"/>
              </a:rPr>
              <a:t>بالحال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AL-Mohanad"/>
              </a:rPr>
              <a:t> و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  <a:cs typeface="AL-Mohanad"/>
              </a:rPr>
              <a:t>صاحبها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474920" y="191628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808080"/>
                </a:solidFill>
                <a:latin typeface="Arial"/>
                <a:cs typeface="AL-Mohanad Black"/>
              </a:rPr>
              <a:t>مثال للملاحظة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39640" y="3770280"/>
            <a:ext cx="80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lack"/>
              </a:rPr>
              <a:t>عَادَ</a:t>
            </a:r>
            <a:r>
              <a:rPr b="0" lang="ar-SA" sz="6600" spc="-1" strike="noStrike">
                <a:solidFill>
                  <a:srgbClr val="cc3300"/>
                </a:solidFill>
                <a:latin typeface="Arial"/>
                <a:ea typeface="AL-Mohanad Black"/>
              </a:rPr>
              <a:t> </a:t>
            </a:r>
            <a:r>
              <a:rPr b="0" lang="ar-SA" sz="6600" spc="-1" strike="noStrike">
                <a:solidFill>
                  <a:srgbClr val="333399"/>
                </a:solidFill>
                <a:latin typeface="Arial"/>
                <a:cs typeface="AL-Mohanad Black"/>
              </a:rPr>
              <a:t>نَبِيلُ</a:t>
            </a:r>
            <a:r>
              <a:rPr b="0" lang="ar-SA" sz="6600" spc="-1" strike="noStrike">
                <a:solidFill>
                  <a:srgbClr val="cc3300"/>
                </a:solidFill>
                <a:latin typeface="Arial"/>
                <a:ea typeface="AL-Mohanad Black"/>
              </a:rPr>
              <a:t>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lack"/>
              </a:rPr>
              <a:t>من المدرسةِ</a:t>
            </a:r>
            <a:r>
              <a:rPr b="0" lang="ar-SA" sz="6600" spc="-1" strike="noStrike">
                <a:solidFill>
                  <a:srgbClr val="cc3300"/>
                </a:solidFill>
                <a:latin typeface="Arial"/>
                <a:ea typeface="AL-Mohanad Black"/>
              </a:rPr>
              <a:t> مُتْعَبًا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68360" y="4365720"/>
            <a:ext cx="388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84360" y="189000"/>
          <a:ext cx="4032360" cy="5173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َادَ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نبيلُ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المدرسة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متعباً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435640" y="1268280"/>
          <a:ext cx="3384360" cy="4320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لمة المقصود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435640" y="1844640"/>
          <a:ext cx="3384360" cy="4320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تنكير والتعري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435640" y="242244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تذكير والتأنيث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435640" y="299880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إفراد والتثنية والجم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435640" y="359244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كم الإعرابي لهذه الكلم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00360" y="765000"/>
          <a:ext cx="3384360" cy="3970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سئلة المناقش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826920" y="126828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متعبا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26920" y="184464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نكر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6920" y="242100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ذك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26920" y="299736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فر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6920" y="357336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نصوب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35640" y="4168800"/>
          <a:ext cx="3384360" cy="70164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ائدة التي أضافتها هذه الكلمة إلى معنى الجمل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826920" y="4149720"/>
          <a:ext cx="3384720" cy="70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بينت حالة الفاعل ( نبيل ) وهيأته عند وقوع الفعل ( عَادَ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5280" y="5661000"/>
          <a:ext cx="8497800" cy="110340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  <a:cs typeface="AL-Mohanad"/>
                        </a:rPr>
                        <a:t>نستنتج أن الحال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L-Mohanad"/>
                        </a:rPr>
                        <a:t> 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اسم نكرة منصوب يبين حالة أو هيأة صاحبه عند وقوع الفعل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35640" y="501336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ذا نسمي هذه الكلم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26920" y="501336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سمى ( حالاً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403280" y="549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55640" y="549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84360" y="189000"/>
          <a:ext cx="4032360" cy="5173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اد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نبيلُ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المدرسة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متعباً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700360" y="765000"/>
          <a:ext cx="3384360" cy="3970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تابع أسئلة المناقش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435640" y="1268280"/>
          <a:ext cx="3384360" cy="4320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 الكلمة التي بينت الحال هيأته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26920" y="126828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نبي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35640" y="1844640"/>
          <a:ext cx="3384360" cy="4320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تنكير والتعري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435640" y="242244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تذكير والتأنيث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35640" y="299880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ا من حيث الإفراد والتثنية والجم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26920" y="184464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عرف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26920" y="242100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ذك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826920" y="299736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فر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435640" y="359244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وقع الإعرابي لهذه الكلم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826920" y="3573360"/>
          <a:ext cx="3384720" cy="4320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فاع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35640" y="4151160"/>
          <a:ext cx="3384360" cy="43020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ذا نسمي هذه الكلم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826920" y="4149720"/>
          <a:ext cx="3384720" cy="431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سمى ( صاحب الحال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95280" y="4869000"/>
          <a:ext cx="8497800" cy="11030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  <a:cs typeface="AL-Mohanad"/>
                        </a:rPr>
                        <a:t>نستنتج أن صاحب الحال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L-Mohanad"/>
                        </a:rPr>
                        <a:t> 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L-Mohanad"/>
                        </a:rPr>
                        <a:t> اسم تبين الحال حالته أو هيأته ، وهو معرفة دائمًا .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11253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682560" y="1890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  <a:cs typeface="AL-Mohanad"/>
              </a:rPr>
              <a:t>ثانياً :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"/>
              </a:rPr>
              <a:t> التطابق بين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AL-Mohanad"/>
              </a:rPr>
              <a:t>الحا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"/>
              </a:rPr>
              <a:t> و</a:t>
            </a:r>
            <a:r>
              <a:rPr b="0" lang="ar-SA" sz="5400" spc="-1" strike="noStrike">
                <a:solidFill>
                  <a:srgbClr val="333399"/>
                </a:solidFill>
                <a:latin typeface="Arial"/>
                <a:cs typeface="AL-Mohanad"/>
              </a:rPr>
              <a:t>صاحبها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900000" y="191628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808080"/>
                </a:solidFill>
                <a:latin typeface="Arial"/>
                <a:cs typeface="AL-Mohanad Black"/>
              </a:rPr>
              <a:t>الحال تطابق صاحبها في 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9"/>
          <p:cNvSpPr/>
          <p:nvPr/>
        </p:nvSpPr>
        <p:spPr>
          <a:xfrm>
            <a:off x="395280" y="3789360"/>
            <a:ext cx="820908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Arial"/>
                <a:ea typeface="AL-Mohanad Black"/>
              </a:rPr>
              <a:t>- الإفراد أو التثنية أو الجمع 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"/>
          <p:cNvSpPr/>
          <p:nvPr/>
        </p:nvSpPr>
        <p:spPr>
          <a:xfrm>
            <a:off x="395280" y="4948200"/>
            <a:ext cx="820908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Arial"/>
                <a:ea typeface="AL-Mohanad Black"/>
              </a:rPr>
              <a:t>- التذكير أو التأنيث 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64000" y="1504800"/>
          <a:ext cx="3529080" cy="7020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لة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989440" y="1484280"/>
          <a:ext cx="1726920" cy="70164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الحا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4000" y="1484280"/>
          <a:ext cx="2376360" cy="70164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صاحب الحا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364000" y="2492280"/>
          <a:ext cx="3529080" cy="701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َادَ</a:t>
                      </a:r>
                      <a:r>
                        <a:rPr b="0" lang="ar-SA" sz="4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التلميذان</a:t>
                      </a: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4000" spc="-1" strike="noStrike">
                          <a:solidFill>
                            <a:srgbClr val="991e09"/>
                          </a:solidFill>
                          <a:latin typeface="Arial"/>
                        </a:rPr>
                        <a:t>متعَبَيْنِ</a:t>
                      </a: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64000" y="3492360"/>
          <a:ext cx="3529080" cy="944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 كل منهما من حيث الإفراد أو التثنية أو الجمع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64000" y="4789440"/>
          <a:ext cx="3529080" cy="944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 كل منهما من حيث التذكير والتأنيث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989440" y="4797360"/>
          <a:ext cx="1726920" cy="9144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5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مذكر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989440" y="2492280"/>
          <a:ext cx="1726920" cy="63972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991e09"/>
                          </a:solidFill>
                          <a:latin typeface="Arial"/>
                        </a:rPr>
                        <a:t>متعَبَيْنِ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89440" y="3500280"/>
          <a:ext cx="1726920" cy="9144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5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مثنى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4000" y="2492280"/>
          <a:ext cx="2376360" cy="63972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التلميذان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4000" y="3500280"/>
          <a:ext cx="2376360" cy="91440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ثنى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4000" y="4797360"/>
          <a:ext cx="2376360" cy="91440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مذكر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124000" y="260280"/>
          <a:ext cx="4176720" cy="100656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6000" spc="-1" strike="noStrike">
                          <a:solidFill>
                            <a:srgbClr val="808080"/>
                          </a:solidFill>
                          <a:latin typeface="Arial"/>
                          <a:cs typeface="AL-Mohanad Black"/>
                        </a:rPr>
                        <a:t>مثال للملاحظة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AL-Mohanad Black"/>
              </a:rPr>
              <a:t>شروط الحا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6920" y="1989000"/>
          <a:ext cx="6913800" cy="517680"/>
        </p:xfrm>
        <a:graphic>
          <a:graphicData uri="http://schemas.openxmlformats.org/drawingml/2006/table">
            <a:tbl>
              <a:tblPr/>
              <a:tblGrid>
                <a:gridCol w="691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- أن تطابق الحال صاحبها في :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336680" y="2637000"/>
          <a:ext cx="2371680" cy="517320"/>
        </p:xfrm>
        <a:graphic>
          <a:graphicData uri="http://schemas.openxmlformats.org/drawingml/2006/table">
            <a:tbl>
              <a:tblPr/>
              <a:tblGrid>
                <a:gridCol w="2371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التذكير أو التأنيث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46560" y="3429000"/>
          <a:ext cx="3097440" cy="517680"/>
        </p:xfrm>
        <a:graphic>
          <a:graphicData uri="http://schemas.openxmlformats.org/drawingml/2006/table">
            <a:tbl>
              <a:tblPr/>
              <a:tblGrid>
                <a:gridCol w="3097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- أن تكون الحال نكرة .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22560" y="2637000"/>
          <a:ext cx="3313440" cy="517320"/>
        </p:xfrm>
        <a:graphic>
          <a:graphicData uri="http://schemas.openxmlformats.org/drawingml/2006/table">
            <a:tbl>
              <a:tblPr/>
              <a:tblGrid>
                <a:gridCol w="331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الإفراد أو التثنية أو الجمع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73"/>
          <p:cNvSpPr/>
          <p:nvPr/>
        </p:nvSpPr>
        <p:spPr>
          <a:xfrm>
            <a:off x="468360" y="1341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00"/>
                </a:solidFill>
                <a:latin typeface="Arial"/>
                <a:cs typeface="AL-Mohanad Black"/>
              </a:rPr>
              <a:t>لإعراب الحال شروط إذا لم تتوفر هذه الشروط تغير الإعرا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3429000"/>
          <a:ext cx="4248000" cy="51768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3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- أن يكون صاحب الحال معرفة .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98560" y="4135320"/>
          <a:ext cx="6913440" cy="517680"/>
        </p:xfrm>
        <a:graphic>
          <a:graphicData uri="http://schemas.openxmlformats.org/drawingml/2006/table">
            <a:tbl>
              <a:tblPr/>
              <a:tblGrid>
                <a:gridCol w="691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4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ea typeface="AL-Mohanad Black"/>
                        </a:rPr>
                        <a:t>- أن تقع جواب ” كيف ” .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908000" y="4869000"/>
          <a:ext cx="4969080" cy="63972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99cc00"/>
                          </a:solidFill>
                          <a:latin typeface="Arial"/>
                          <a:cs typeface="AL-Mohanad Black"/>
                        </a:rPr>
                        <a:t>مثال :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شرب محمد </a:t>
                      </a:r>
                      <a:r>
                        <a:rPr b="0" lang="ar-SA" sz="3200" spc="-1" strike="noStrike">
                          <a:solidFill>
                            <a:srgbClr val="333399"/>
                          </a:solidFill>
                          <a:latin typeface="Arial"/>
                          <a:cs typeface="AL-Mohanad Black"/>
                        </a:rPr>
                        <a:t>الحليب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r>
                        <a:rPr b="0" lang="ar-SA" sz="3200" spc="-1" strike="noStrike">
                          <a:solidFill>
                            <a:srgbClr val="991e09"/>
                          </a:solidFill>
                          <a:latin typeface="Arial"/>
                          <a:cs typeface="AL-Mohanad Black"/>
                        </a:rPr>
                        <a:t>ساخناً .</a:t>
                      </a: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5597640"/>
          <a:ext cx="7488360" cy="63972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AL-Mohanad Black"/>
                        </a:rPr>
                        <a:t>س : كيف شرب محمد الحليب ؟ </a:t>
                      </a:r>
                      <a:r>
                        <a:rPr b="0" lang="ar-SA" sz="2800" spc="-1" strike="noStrike">
                          <a:solidFill>
                            <a:srgbClr val="333399"/>
                          </a:solidFill>
                          <a:latin typeface="Arial"/>
                          <a:cs typeface="AL-Mohanad Black"/>
                        </a:rPr>
                        <a:t>فيكون الجواب ( </a:t>
                      </a:r>
                      <a:r>
                        <a:rPr b="0" lang="ar-SA" sz="2800" spc="-1" strike="noStrike">
                          <a:solidFill>
                            <a:srgbClr val="991e09"/>
                          </a:solidFill>
                          <a:latin typeface="Arial"/>
                          <a:cs typeface="AL-Mohanad Black"/>
                        </a:rPr>
                        <a:t>ساخنًا</a:t>
                      </a:r>
                      <a:r>
                        <a:rPr b="0" lang="ar-SA" sz="2800" spc="-1" strike="noStrike">
                          <a:solidFill>
                            <a:srgbClr val="333399"/>
                          </a:solidFill>
                          <a:latin typeface="Arial"/>
                          <a:ea typeface="AL-Mohanad Black"/>
                        </a:rPr>
                        <a:t> )</a:t>
                      </a: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  <a:ea typeface="AL-Mohanad Black"/>
                        </a:rPr>
                        <a:t>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468360" y="771480"/>
            <a:ext cx="7993080" cy="85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cc3300"/>
                </a:solidFill>
                <a:latin typeface="Arial"/>
              </a:rPr>
              <a:t>تطبيق</a:t>
            </a:r>
            <a:endParaRPr b="1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549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Arial"/>
                <a:cs typeface="AL-Mohanad Black"/>
              </a:rPr>
              <a:t>س / طبق شروط الحال على المثال التال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9800" y="2511360"/>
          <a:ext cx="8217000" cy="3799080"/>
        </p:xfrm>
        <a:graphic>
          <a:graphicData uri="http://schemas.openxmlformats.org/drawingml/2006/table">
            <a:tbl>
              <a:tblPr/>
              <a:tblGrid>
                <a:gridCol w="1644840"/>
                <a:gridCol w="1028520"/>
                <a:gridCol w="1028880"/>
                <a:gridCol w="1028520"/>
                <a:gridCol w="1028880"/>
                <a:gridCol w="1228680"/>
                <a:gridCol w="1228680"/>
              </a:tblGrid>
              <a:tr h="5205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طبيق شروط الحال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ن يقع الحال جواب لـ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L-Mohanad"/>
                        </a:rPr>
                        <a:t>( كيف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ن يطابق الحال صاحبه في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التذكير أو التأنيث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ن يطابق الحال صاحبه في الإفراد أو التثنية أو الجم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ن يكون صاحب الحال معرف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L-Mohanad"/>
                        </a:rPr>
                        <a:t>أن تكون الحال نكر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8000"/>
                          </a:solidFill>
                          <a:latin typeface="Arial"/>
                          <a:cs typeface="AL-Mohanad"/>
                        </a:rPr>
                        <a:t>أي عندما نقول : كيف أقبل مروان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8000"/>
                          </a:solidFill>
                          <a:latin typeface="Arial"/>
                          <a:cs typeface="AL-Mohanad"/>
                        </a:rPr>
                        <a:t>فالإجابة تكو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8000"/>
                          </a:solidFill>
                          <a:latin typeface="Arial"/>
                          <a:cs typeface="AL-Mohanad"/>
                        </a:rPr>
                        <a:t>ضاحكًا 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صاحب الحا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الحا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صاحب الحا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الحا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مروا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ضاحكً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مروا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ضاحكً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كلمة مروان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AL-Mohanad"/>
                        </a:rPr>
                        <a:t>(</a:t>
                      </a:r>
                      <a:r>
                        <a:rPr b="1" lang="ar-SA" sz="16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صاحب الحال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معرف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كلمة ضاحكًا ( الحال 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نكر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مذك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مذك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99"/>
                          </a:solidFill>
                          <a:latin typeface="Arial"/>
                          <a:cs typeface="AL-Mohanad"/>
                        </a:rPr>
                        <a:t>مفر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991e09"/>
                          </a:solidFill>
                          <a:latin typeface="Arial"/>
                          <a:cs typeface="AL-Mohanad"/>
                        </a:rPr>
                        <a:t>مفر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39"/>
          <p:cNvSpPr/>
          <p:nvPr/>
        </p:nvSpPr>
        <p:spPr>
          <a:xfrm>
            <a:off x="1979640" y="1052640"/>
            <a:ext cx="43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lack"/>
              </a:rPr>
              <a:t>أقبل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L-Mohanad Black"/>
              </a:rPr>
              <a:t>مروانُ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ohanad Black"/>
              </a:rPr>
              <a:t> </a:t>
            </a:r>
            <a:r>
              <a:rPr b="0" lang="ar-SA" sz="3600" spc="-1" strike="noStrike">
                <a:solidFill>
                  <a:srgbClr val="991e09"/>
                </a:solidFill>
                <a:latin typeface="Arial"/>
                <a:cs typeface="AL-Mohanad Black"/>
              </a:rPr>
              <a:t>ضاحكً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9"/>
          <p:cNvSpPr/>
          <p:nvPr/>
        </p:nvSpPr>
        <p:spPr>
          <a:xfrm>
            <a:off x="250920" y="1773360"/>
            <a:ext cx="8642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L-Mohanad"/>
              </a:rPr>
              <a:t>كلمة </a:t>
            </a:r>
            <a:r>
              <a:rPr b="1" lang="ar-SA" sz="2400" spc="-1" strike="noStrike">
                <a:solidFill>
                  <a:srgbClr val="991e09"/>
                </a:solidFill>
                <a:latin typeface="Arial"/>
                <a:cs typeface="AL-Mohanad"/>
              </a:rPr>
              <a:t>ضاحكً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 في الجملة ( </a:t>
            </a:r>
            <a:r>
              <a:rPr b="1" lang="ar-SA" sz="2400" spc="-1" strike="noStrike">
                <a:solidFill>
                  <a:srgbClr val="991e09"/>
                </a:solidFill>
                <a:latin typeface="Arial"/>
                <a:cs typeface="AL-Mohanad"/>
              </a:rPr>
              <a:t>حا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 ) لأنها بينت حالة وهيأة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  <a:cs typeface="AL-Mohanad"/>
              </a:rPr>
              <a:t>مروا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Mohanad"/>
              </a:rPr>
              <a:t> عند وقوع الفعل ( أقبل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4:43:54Z</dcterms:created>
  <dc:creator>بندر الشريف</dc:creator>
  <dc:description/>
  <dc:language>en-US</dc:language>
  <cp:lastModifiedBy>bndr</cp:lastModifiedBy>
  <dcterms:modified xsi:type="dcterms:W3CDTF">2009-04-18T03:23:42Z</dcterms:modified>
  <cp:revision>54</cp:revision>
  <dc:subject>الحال</dc:subject>
  <dc:title>درس قواعد سادس</dc:title>
</cp:coreProperties>
</file>