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gif" ContentType="image/gif"/>
  <Override PartName="/ppt/media/image3.wmf" ContentType="image/x-wmf"/>
  <Override PartName="/ppt/media/image5.gif" ContentType="image/gif"/>
  <Override PartName="/ppt/media/image28.gif" ContentType="image/gif"/>
  <Override PartName="/ppt/media/image16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9.wmf" ContentType="image/x-wmf"/>
  <Override PartName="/ppt/media/image27.jpeg" ContentType="image/jpeg"/>
  <Override PartName="/ppt/media/image13.gif" ContentType="image/gif"/>
  <Override PartName="/ppt/media/image9.gif" ContentType="image/gif"/>
  <Override PartName="/ppt/media/image11.gif" ContentType="image/gif"/>
  <Override PartName="/ppt/media/image29.gif" ContentType="image/gif"/>
  <Override PartName="/ppt/media/image17.wmf" ContentType="image/x-wmf"/>
  <Override PartName="/ppt/media/image10.wmf" ContentType="image/x-wmf"/>
  <Override PartName="/ppt/media/image18.jpeg" ContentType="image/jpeg"/>
  <Override PartName="/ppt/media/image22.gif" ContentType="image/gif"/>
  <Override PartName="/ppt/media/image2.gif" ContentType="image/gif"/>
  <Override PartName="/ppt/media/image6.jpeg" ContentType="image/jpeg"/>
  <Override PartName="/ppt/media/image25.gif" ContentType="image/gif"/>
  <Override PartName="/ppt/media/image8.gif" ContentType="image/gif"/>
  <Override PartName="/ppt/media/image4.wmf" ContentType="image/x-wmf"/>
  <Override PartName="/ppt/media/image14.wmf" ContentType="image/x-wmf"/>
  <Override PartName="/ppt/media/image26.gif" ContentType="image/gif"/>
  <Override PartName="/ppt/media/image20.gif" ContentType="image/gif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99B-EAD7-4375-B528-3163FB44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67A-D234-4C38-9641-2F42E9F2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A8D-6DB2-4D6B-96CE-088A3293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EB5-DC07-4A34-ADB9-7BE5A7DF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56D7-4FA1-42EC-9E61-62199DE7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FD45-1044-444C-A842-1616E27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9D4D-229C-46E9-BAED-D159596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3826-F044-420C-B482-8DA6C0CE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DE2D-D2EE-4971-B02D-49F187A4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93AF-D756-4F1E-A9F1-117CA3BC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F002-F505-43D1-8BAE-A74F0DB2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A5F-0C88-45B8-AC68-DCF48572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247B-205B-463A-8261-7774854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758E-A30C-4BC7-8CE3-B9E4348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284-B625-4A79-A5D1-AB8B38A0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8EC2-38FA-42B3-9E1A-1B016597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4564-03E8-446C-8FFB-09362521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5CFF-03D3-41C7-B974-755072A8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3142-CFB1-43D5-95FC-E2914D8F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596F-A88A-4BDB-994B-8818432E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7247-79AC-441D-BF3B-61B0A7AC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C250D-5E91-4152-BE06-6501F807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B40-D552-4FB8-AA59-B234D94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840D-116E-4F65-AA79-4308E370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DF32-EA27-4C59-B0EF-0EDC9269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29CE-C46F-41FB-9EEE-6055F24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8F09-7D9B-43E4-AF91-C595C88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3BC7-9D27-4888-B780-84C0F6BF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FBE17-8953-4905-A6EC-B59A5778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8F23-C82F-402B-904C-A276F41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3B687-0806-4128-BB7E-3496E7D5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C769F-1291-412A-AC5E-6692C84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43550-394A-435F-8685-53AEEE44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F1E-F716-4943-A07A-0D4C2BE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8D6FD-4B83-458E-A6D3-BDAA615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447C6-B904-4EF7-823F-804EA63F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38C62-9D53-4EBE-99DB-340497CB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DBA2C-C304-49BA-A75E-F683951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877E7-2E45-4D9D-98B2-0ABBB4D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1391A4-D89B-44CE-AEC2-9C72E7F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55AA5-B59C-4BF5-9D38-446358ED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AA8FA-85C4-4D2B-95BD-30657354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31D81-51F5-4A82-A874-B64BA3AA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B25-195B-4F61-83D2-2A626845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980-CBEC-4422-A4E6-9A3D100D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74C-D8D2-484A-9EF1-C8858DEB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DDC-2974-4299-896B-E3A8E88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A53-394F-495E-B70B-9B88203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393-1383-4662-A9A2-CE5CFFF6754C}" type="slidenum">
              <a:rPr b="0" lang="ar-OM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EF2D-AB5B-4CC1-A31A-DC6234F8288E}" type="slidenum">
              <a:rPr b="0" lang="ar-OM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69D4-E569-4DA0-A995-2CC9CA17B311}" type="slidenum">
              <a:rPr b="0" lang="ar-OM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OM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A63C-1445-4A71-A101-61B47F4461F8}" type="slidenum">
              <a:rPr b="0" lang="ar-OM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image" Target="../media/image24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763640" y="333360"/>
            <a:ext cx="56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يف أحافظ على نظافة جسمي؟؟؟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16720" y="5229360"/>
            <a:ext cx="2340000" cy="1150920"/>
            <a:chOff x="6516720" y="5229360"/>
            <a:chExt cx="2340000" cy="1150920"/>
          </a:xfrm>
        </p:grpSpPr>
        <p:sp>
          <p:nvSpPr>
            <p:cNvPr id="232" name=""/>
            <p:cNvSpPr txBox="1"/>
            <p:nvPr/>
          </p:nvSpPr>
          <p:spPr>
            <a:xfrm>
              <a:off x="6805800" y="5589720"/>
              <a:ext cx="1726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عينين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16720" y="5229360"/>
              <a:ext cx="2340000" cy="115092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132000" y="3141720"/>
            <a:ext cx="2916360" cy="1311120"/>
            <a:chOff x="3132000" y="3141720"/>
            <a:chExt cx="2916360" cy="1311120"/>
          </a:xfrm>
        </p:grpSpPr>
        <p:sp>
          <p:nvSpPr>
            <p:cNvPr id="235" name=""/>
            <p:cNvSpPr txBox="1"/>
            <p:nvPr/>
          </p:nvSpPr>
          <p:spPr>
            <a:xfrm>
              <a:off x="3456000" y="3436560"/>
              <a:ext cx="2185920" cy="65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يديين والأقدام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32000" y="3141720"/>
              <a:ext cx="2916360" cy="131112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24000" y="3340080"/>
            <a:ext cx="2376360" cy="1168560"/>
            <a:chOff x="324000" y="3340080"/>
            <a:chExt cx="2376360" cy="1168560"/>
          </a:xfrm>
        </p:grpSpPr>
        <p:sp>
          <p:nvSpPr>
            <p:cNvPr id="238" name=""/>
            <p:cNvSpPr txBox="1"/>
            <p:nvPr/>
          </p:nvSpPr>
          <p:spPr>
            <a:xfrm>
              <a:off x="611280" y="3635280"/>
              <a:ext cx="175716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أذنيين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00" y="3340080"/>
              <a:ext cx="2376360" cy="116856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43640" y="3392640"/>
            <a:ext cx="2413080" cy="1187280"/>
            <a:chOff x="6443640" y="3392640"/>
            <a:chExt cx="2413080" cy="1187280"/>
          </a:xfrm>
        </p:grpSpPr>
        <p:sp>
          <p:nvSpPr>
            <p:cNvPr id="241" name=""/>
            <p:cNvSpPr txBox="1"/>
            <p:nvPr/>
          </p:nvSpPr>
          <p:spPr>
            <a:xfrm>
              <a:off x="6746760" y="3774960"/>
              <a:ext cx="1784520" cy="4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جلد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3640" y="3392640"/>
              <a:ext cx="2413080" cy="118728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4000" y="5013360"/>
            <a:ext cx="2592360" cy="1257120"/>
            <a:chOff x="324000" y="5013360"/>
            <a:chExt cx="2592360" cy="1257120"/>
          </a:xfrm>
        </p:grpSpPr>
        <p:sp>
          <p:nvSpPr>
            <p:cNvPr id="244" name=""/>
            <p:cNvSpPr txBox="1"/>
            <p:nvPr/>
          </p:nvSpPr>
          <p:spPr>
            <a:xfrm>
              <a:off x="706320" y="5248080"/>
              <a:ext cx="1851120" cy="59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أسنان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4000" y="5013360"/>
              <a:ext cx="2592360" cy="125712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443640" y="1844640"/>
            <a:ext cx="2340000" cy="1150920"/>
            <a:chOff x="6443640" y="1844640"/>
            <a:chExt cx="2340000" cy="1150920"/>
          </a:xfrm>
        </p:grpSpPr>
        <p:sp>
          <p:nvSpPr>
            <p:cNvPr id="247" name=""/>
            <p:cNvSpPr txBox="1"/>
            <p:nvPr/>
          </p:nvSpPr>
          <p:spPr>
            <a:xfrm>
              <a:off x="6875640" y="2131920"/>
              <a:ext cx="1511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أنف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3640" y="1844640"/>
              <a:ext cx="2340000" cy="115092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5280" y="1844640"/>
            <a:ext cx="2340000" cy="1150920"/>
            <a:chOff x="395280" y="1844640"/>
            <a:chExt cx="2340000" cy="1150920"/>
          </a:xfrm>
        </p:grpSpPr>
        <p:sp>
          <p:nvSpPr>
            <p:cNvPr id="250" name=""/>
            <p:cNvSpPr txBox="1"/>
            <p:nvPr/>
          </p:nvSpPr>
          <p:spPr>
            <a:xfrm>
              <a:off x="684360" y="2204640"/>
              <a:ext cx="1655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0">
                    <a:noFill/>
                  </a:ln>
                  <a:solidFill>
                    <a:srgbClr val="ff99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نظافة الشعر</a:t>
              </a:r>
              <a:endPara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5280" y="1844640"/>
              <a:ext cx="2340000" cy="1150920"/>
            </a:xfrm>
            <a:prstGeom prst="bevel">
              <a:avLst>
                <a:gd name="adj" fmla="val 2110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219060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39640" y="333360"/>
            <a:ext cx="7039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جزر مفيد ل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6372360" y="1700280"/>
            <a:ext cx="208728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لأن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1187280" y="1700280"/>
            <a:ext cx="208764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لأذ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4653000"/>
            <a:ext cx="208764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لعين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1116000" y="4724280"/>
            <a:ext cx="201600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لأسن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924360" y="270828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8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372360" y="1700280"/>
            <a:ext cx="151272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9640" y="5084640"/>
            <a:ext cx="136836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يد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4941720"/>
            <a:ext cx="143964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ذ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1916280"/>
            <a:ext cx="1297080" cy="12236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أن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9640" y="333360"/>
            <a:ext cx="7039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تمخط بقوة يؤذي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364000" y="148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2771640" y="1557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5280" y="765000"/>
            <a:ext cx="828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عندما تألمك أذنك تقوم بـــ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5724360" y="1700280"/>
            <a:ext cx="273528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صب القهوة في الأذ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611280" y="1844640"/>
            <a:ext cx="316872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دخال عود تنظيف الأذ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84720" y="4221000"/>
            <a:ext cx="230364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ذهاب الى طب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4076640"/>
            <a:ext cx="2087640" cy="122400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هم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1619280" y="5373720"/>
            <a:ext cx="1031760" cy="1152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3348000" y="5373720"/>
            <a:ext cx="1031760" cy="1152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4932360" y="5229360"/>
            <a:ext cx="1031760" cy="1152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6659640" y="5373720"/>
            <a:ext cx="1031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02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06" dur="2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116000" y="126828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1042920" y="5661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1245960" cy="10717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835280" y="2421000"/>
            <a:ext cx="3600360" cy="136836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حيوا زميل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نظافة اليديين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6195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 يجب غسل اليديين عدة مرات في اليوم بالماء و الصابون وخاصة قبل الأكل و الشر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 تقليم الأظاف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 عدم وضع الأصابع في الف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استخدام اليد اليمنى في الأكل و اليسرى عند استخدام المرحا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37200" y="2565360"/>
            <a:ext cx="31068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2852280"/>
            <a:ext cx="3960720" cy="30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تقليم الأظاف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غسل الرجليين بإنتظ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ارتداء الأحذية لحمايتها من الإصابات ومنع الديدان من خرق الجل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168720" cy="2808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92360" y="260280"/>
            <a:ext cx="460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نظافة القدمي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79200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792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356000" y="2636640"/>
            <a:ext cx="41832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غسل ما حول الأذ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الإبتعاد عن أماكن الضوض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Monotype Koufi"/>
              </a:rPr>
              <a:t>*عدم ادخال أي جسم حاد أو زيت أو قهو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2700000" y="122400"/>
            <a:ext cx="3887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نظافة الأذنيي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619280" y="429264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971640" y="1413000"/>
            <a:ext cx="2592360" cy="2646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956720" y="5229360"/>
            <a:ext cx="863280" cy="1295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63640" cy="1295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324000" y="5084640"/>
            <a:ext cx="863280" cy="1295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863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16782 C 0.05226 -0.16782 0.10833 -0.09316 0.10833 -0.00139 C 0.10833 0.09038 0.05226 0.16505 -0.01667 0.16505 C -0.08559 0.16505 -0.14167 0.09038 -0.14167 -0.00139 C -0.14167 -0.09316 -0.08559 -0.16782 -0.01667 -0.16782 Z">
                                      <p:cBhvr>
                                        <p:cTn id="15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417672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نظافة العيني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557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67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"/>
                <a:ea typeface="Monotype Koufi"/>
              </a:rPr>
              <a:t>* مسح العين بمنديل نظيف ورط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"/>
                <a:ea typeface="Monotype Koufi"/>
              </a:rPr>
              <a:t>*عدم وضع شيئا في الع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"/>
                <a:ea typeface="Monotype Koufi"/>
              </a:rPr>
              <a:t>*عدم استخدام نظارات الأخرين وتناول الجز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"/>
                <a:ea typeface="Monotype Koufi"/>
              </a:rPr>
              <a:t>*غسل العيين بالماء و الصاب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66"/>
                </a:solidFill>
                <a:latin typeface="Arial"/>
                <a:ea typeface="Monotype Koufi"/>
              </a:rPr>
              <a:t>*لاأسلط عليها الضو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168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نظافة الأن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استخدام المناديل في تنظيف السائل المخاطي من الأن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عدم التمخط بقوة حتى لاتتأذى الأذن الداخ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onotype Koufi"/>
              </a:rPr>
              <a:t>عدم ادخال الأصابع أو أي جسم غري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592360" cy="2627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573560" cy="1503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867280" y="4592520"/>
            <a:ext cx="17193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-360" y="2492280"/>
            <a:ext cx="3822840" cy="29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onotype Koufi"/>
              </a:rPr>
              <a:t>يجب تنظيف الأسنان بإنتظام لحمايتها من التسوس وأمراض اللثة قال الرسول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واك مطهرة للفم مرضاة للرب</a:t>
            </a:r>
            <a:r>
              <a:rPr b="0" lang="ar-SA" sz="24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539280" y="260280"/>
            <a:ext cx="374508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نظافة الأسنان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427640" y="278136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225520" cy="1047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140360" y="184464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Monotype Koufi"/>
              </a:rPr>
              <a:t>الفرشاة و المعج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2360" y="3068640"/>
            <a:ext cx="1800000" cy="576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Monotype Koufi"/>
              </a:rPr>
              <a:t>الخيط  الط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071720" cy="1152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7986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56000" y="333360"/>
            <a:ext cx="4248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ea831c"/>
                </a:solidFill>
                <a:latin typeface="Arial"/>
              </a:rPr>
              <a:t>نظافة الشع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284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66"/>
                </a:solidFill>
                <a:latin typeface="Arial"/>
              </a:rPr>
              <a:t>*</a:t>
            </a:r>
            <a:r>
              <a:rPr b="0" lang="ar-SA" sz="4000" spc="-1" strike="noStrike">
                <a:solidFill>
                  <a:srgbClr val="ff0066"/>
                </a:solidFill>
                <a:latin typeface="Arial"/>
                <a:cs typeface="Monotype Koufi"/>
              </a:rPr>
              <a:t>غسل الشعر و تمشيط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Arial"/>
                <a:ea typeface="Monotype Koufi"/>
              </a:rPr>
              <a:t>*غسل غطاء الرأس مرتين في الإسب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66"/>
                </a:solidFill>
                <a:latin typeface="Arial"/>
                <a:ea typeface="Monotype Koufi"/>
              </a:rPr>
              <a:t>*فحص الشعر لخلوة من القم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rcRect l="0" t="0" r="16146" b="0"/>
          <a:stretch/>
        </p:blipFill>
        <p:spPr>
          <a:xfrm>
            <a:off x="5580000" y="2060640"/>
            <a:ext cx="3124440" cy="2766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280836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403236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نظافة ال</a:t>
            </a:r>
            <a:r>
              <a:rPr b="1" lang="ar-OM" sz="4400" spc="-1" strike="noStrike">
                <a:solidFill>
                  <a:srgbClr val="d60093"/>
                </a:solidFill>
                <a:latin typeface="Arial"/>
              </a:rPr>
              <a:t>جلد</a:t>
            </a:r>
            <a:r>
              <a:rPr b="1" lang="ar-SA" sz="4400" spc="-1" strike="noStrike">
                <a:solidFill>
                  <a:srgbClr val="d60093"/>
                </a:solidFill>
                <a:latin typeface="Arial"/>
              </a:rPr>
              <a:t> والوجه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2600" spc="-1" strike="noStrike">
                <a:solidFill>
                  <a:srgbClr val="3333ff"/>
                </a:solidFill>
                <a:latin typeface="Arial"/>
              </a:rPr>
              <a:t>*</a:t>
            </a:r>
            <a:r>
              <a:rPr b="0" lang="ar-OM" sz="4800" spc="-1" strike="noStrike">
                <a:solidFill>
                  <a:srgbClr val="0000ff"/>
                </a:solidFill>
                <a:latin typeface="Arial"/>
                <a:cs typeface="Monotype Koufi"/>
              </a:rPr>
              <a:t>الإستحمام وغسل الجس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4800" spc="-1" strike="noStrike">
                <a:solidFill>
                  <a:srgbClr val="0000ff"/>
                </a:solidFill>
                <a:latin typeface="Arial"/>
                <a:ea typeface="Monotype Koufi"/>
              </a:rPr>
              <a:t>*نظافة الملابس والأغطية و البطاط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Arial"/>
                <a:ea typeface="Monotype Koufi"/>
              </a:rPr>
              <a:t>*</a:t>
            </a:r>
            <a:r>
              <a:rPr b="0" lang="ar-OM" sz="4800" spc="-1" strike="noStrike">
                <a:solidFill>
                  <a:srgbClr val="0000ff"/>
                </a:solidFill>
                <a:latin typeface="Arial"/>
                <a:cs typeface="Monotype Koufi"/>
              </a:rPr>
              <a:t>وضع الكريمات لترطيب الجسم وحمايته من الجف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4800" spc="-1" strike="noStrike">
                <a:solidFill>
                  <a:srgbClr val="0000ff"/>
                </a:solidFill>
                <a:latin typeface="Arial"/>
                <a:ea typeface="Monotype Koufi"/>
              </a:rPr>
              <a:t>*يجب ان تكو</a:t>
            </a:r>
            <a:r>
              <a:rPr b="0" lang="ar-SA" sz="4800" spc="-1" strike="noStrike">
                <a:solidFill>
                  <a:srgbClr val="0000ff"/>
                </a:solidFill>
                <a:latin typeface="Arial"/>
                <a:cs typeface="Monotype Koufi"/>
              </a:rPr>
              <a:t>ن</a:t>
            </a:r>
            <a:r>
              <a:rPr b="0" lang="ar-OM" sz="4800" spc="-1" strike="noStrike">
                <a:solidFill>
                  <a:srgbClr val="0000ff"/>
                </a:solidFill>
                <a:latin typeface="Arial"/>
                <a:ea typeface="Monotype Koufi"/>
              </a:rPr>
              <a:t> للحيوانات مكان خاص بها بعيد عن اماكن المعيش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076720" y="0"/>
            <a:ext cx="1368360" cy="1206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 flipH="1">
            <a:off x="1258920" y="0"/>
            <a:ext cx="12412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9:31Z</dcterms:created>
  <dc:creator>win</dc:creator>
  <dc:description/>
  <dc:language>en-US</dc:language>
  <cp:lastModifiedBy>win</cp:lastModifiedBy>
  <dcterms:modified xsi:type="dcterms:W3CDTF">2006-09-30T19:06:36Z</dcterms:modified>
  <cp:revision>8</cp:revision>
  <dc:subject/>
  <dc:title>الشريحة 1</dc:title>
</cp:coreProperties>
</file>