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F26-EC21-4F15-9E33-E8EBCF71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16D-F2DD-4F00-81B5-3B092EE3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CBB-E847-4FC2-9176-5DBC839E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943-8E9C-4096-BB3C-A98A0457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1881-0B9F-45D9-8991-003238D9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B5C4-D1F7-4766-8742-6D362DDF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A7DA-95AB-42F8-82DF-9A406730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4129-9636-40E4-AC7C-28F29E35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9B94-D307-46C9-A417-08934548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C3F2-D614-459C-811A-8DCEA0DE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EB94-1F18-4E42-8CAC-B8923DA3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E08-EA8D-409B-A438-DF27CA79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0934-710E-43E7-A6D9-C193859A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2701-D92B-4050-B8E1-62E94FD9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6438-B05C-4588-9A7C-1C2B61C9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7667-BBD7-4E82-8D20-108014E3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FD38-1D59-4C51-9922-A43B1BC9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D40-89D2-4666-BA1C-2C5CCB7C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DFC7-75E1-486A-925E-C43C7ACF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DBE-5FF3-4C7C-BB94-230DC20A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047-DBED-41A6-BDA8-683769F4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6AE-400F-42BA-A708-02E92CDA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5CF-2A45-48A4-97E0-E7CA8DCB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A28-FB58-411A-9342-A61DFC46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F0E5-FFEB-411C-A9CB-F47892D5A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78C7-309A-497E-899B-1CFA94F201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cc0000"/>
                </a:solidFill>
                <a:latin typeface="Tahoma"/>
              </a:rPr>
              <a:t>تفسير لائحة تقويم الاداء الوظيفي</a:t>
            </a:r>
            <a:endParaRPr b="0" lang="en-US" sz="8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86532"/>
                </a:solidFill>
                <a:latin typeface="Tahoma"/>
              </a:rPr>
              <a:t>اعدا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ahoma"/>
              </a:rPr>
              <a:t>عــــــــا مر  عـــواد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8800"/>
                </a:solidFill>
                <a:latin typeface="Tahoma"/>
              </a:rPr>
              <a:t>العنص الثالث</a:t>
            </a:r>
            <a:r>
              <a:rPr b="0" lang="ar-SA" sz="44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400"/>
            </a:b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اهتمام بالنمو المعرفي  (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)  درجات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         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   مدى استفادة المعلم من الممارسات التعليمية في تحقيق النمو المهني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·              يحافظ على التعلم المستمر 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·              يستفيد من الأدبيات المهنية والفرص التطويرية الأخرى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·              ينمي وعيه الثقافي والاجتماعي والاقتصادي بمجتمع التلاميذ وأسرهم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·              يتعاون مع زملائه لتطوير الممارسات المهنية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·              يوازن بين المسؤوليات المهنية والمحافظة على الواقعية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وتلاحظ هذه النقطة من خلال تنوع مصادر المعرفة العلمية والتربوية  في المجال العلمي واستفادة المعلم من هذه المصادر ويتضح ذلك من خلال تدوين المعلم بعض المراجع  في دفتر التحضير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رابع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المحافظة على اوقات الدوام ( 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ويلاحظ ذلك من خلال التزام المعلم في دوامة حضورا وانصرافا ،والتزامة بدخول الحصص في وقتها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خامس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الإلمام بالأسس التربوية في إعداد الدروس وتطبيقها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11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4800" spc="-1" strike="noStrike">
                <a:solidFill>
                  <a:srgbClr val="cc0000"/>
                </a:solidFill>
                <a:latin typeface="Tahoma"/>
              </a:rPr>
              <a:t>وصف العن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 تحديد أهدافاً تربوية مناسبة للتلاميذ 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 تنمية مهارات التلاميذ في التفكير الناقد والتفكير الابداعي وحل المشكلات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ربط معارف التلاميذ السابقة وميولهم وقدراتهم وخبراتهم بالأهداف التربوي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امة وتمكنة من صياغة اهداف سلوكية اجرائية لكل درس وتدوينها في كراس التحضير وقابلة للقياس ، وقدرته على ربط افكار الدرس وتنظيمها  وابراز هذه العناصثر الاساسية في الدرس والربط بينها بشكمنظمواستخدام اساليب تساعد على تطبيقها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سادس</a:t>
            </a: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التمكن من المادة العلمية والقدرة على تحقيق أهدافها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11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4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تقان مادته وتمكنة الجيد من تخصصة ومحتواها من حقائق علمية ومتقن ما يتصل بها من مهارات وتحقيقها اهدافها  من  خلال الاساليب المستخدمة لشد انتباه التلاميذ واثارتهم وربط  الاهداف بالمحتو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قدرته على اختيار مصادر المعرفة المناسبة للتلاميذ بما يساعد على تحقيق الأهداف التربوية لديه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قدرتة على تنوع في الخبرات التعليمية بما يتناسب والأساليب المختلفة لتعلم التلامي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سابع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الاهتمام بالتقويم المستمر ومراعاة الفروق الفردية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11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48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ويلاحظ هذا من خلال ابراز المعلم وتوظيف  قدرات الطلاب المتفوقين  اثناء عرضة الدرسوتقديم البرامج الاثرائية لتعزيز تفوقهم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ورعاية الطلاب المتأخرين دراسيا وتحفيزهم اثناء عرض الدرس  وتقديم برامج علاجية لرفع مستواهموان يراعي استخدام اساليب اساليب واهداف الدرس ومراعاة  مابين الطلاب من فوار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 استخدام أساليب متنوعة لتقويم تعلم التلاميذ  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 توفير فرصاً كافية  لتشجيع التلاميذ على التعلم بمختلف مستوياتهم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ة على وضع برامج علاجية لبعض المشكلات مثل الضعف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ثامن</a:t>
            </a: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توزيع المنهج وملاءمة ما نفذ منه للزمن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ويلاحظ ذلك من خلال توزيع المعلم المقررالدراسي على اسابيع وايام الفصل الدراسي  ,ومن خلال تحضيرة اليومي  الكتابي والذهن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قدرته على ان يحدد طرق التدريس العامة 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قدرته على تحديد الاهداف ومتوياتها  وعلاقتها بما يدر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تاسع </a:t>
            </a:r>
            <a:br>
              <a:rPr sz="4000"/>
            </a:br>
            <a:r>
              <a:rPr b="1" lang="ar-SA" sz="4000" spc="-1" strike="noStrike">
                <a:solidFill>
                  <a:srgbClr val="827f4c"/>
                </a:solidFill>
                <a:latin typeface="Tahoma"/>
              </a:rPr>
              <a:t>توظيف الوسائل التعليمية وارتباطها بالدرس تربويا وفنيا</a:t>
            </a: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11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48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قدرته على توضح مفهوم الوسيلة التعليمية 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 اختيارالوسائل المستخدمة مناسبة لتحقيق اهداف الدرس ومراعية للشروط والواجب توافرها في الوسيلة ، مع اهمية وقته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ان يكون متفهما  لاثر الوسائل التعليمية في عملية التعل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ن يكون ملما بتصنيفات و قواعد اختيار واستخدام الوسيلة التعليمي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عاشر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المهارة في عرض الدروس وإدارة الفصل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11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48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 rtl="1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 توفر بيئة تعليمية آمنة لتحقيق عملية التعل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 rtl="1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قدرتة على ان يستثمر الوقت التعليمي بطريقة فاعل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 rtl="1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ة المعلم على تحقيق الانظباط  للطلاب في الفصل وتوظيفة لصالح الدرس من خلال ،هدوء وتفاعل الطلاب مع الدرس ، تنظيم مشاركات الطلاب في الدرس، وقدرته هذه تكون  عن طريق التنويع في الاساليب في التدريس وطرح اسئلة تثير دوافع التفكير والخيا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حادي عشر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مستوى تحصيل الطلاب العلمي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48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ن  يكون  مستوى طلابة مناسب  ، لمستويات الاسئلة التي وضعت  ، ويتناسب مع مستوى المرحلة ، وذلك  عن طريق تحليل نتائج الاختبار ومعرفة نقاط القوة والضعف وعمل العلاج ل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 الاستفادة من نتائج التقويم في توجيه عمليتي التعليم والتعلم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 توصيل المعلومة بطريقة سهلة للطلب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ثاني عشر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التطبيقات والواجبات المنزلية ودقة تصويبها     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مناسبة الواجبات والتطبيقات كما وكيفا لما قطع من المنهج ، ومتابعتة تصيبها ودقتها  ،ومتابعتها بأستمرا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معرفة مدى تفهمة للهدف من الواجبات المدرسي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c0000"/>
                </a:solidFill>
                <a:latin typeface="Tahoma"/>
              </a:rPr>
              <a:t>مصادر إعداد التقرير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11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00"/>
                </a:solidFill>
                <a:latin typeface="Tahoma"/>
              </a:rPr>
              <a:t>ملف الموظف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1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00"/>
                </a:solidFill>
                <a:latin typeface="Tahoma"/>
              </a:rPr>
              <a:t>سجل تدوين ملاحظات الرئيس المباشر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1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00"/>
                </a:solidFill>
                <a:latin typeface="Tahoma"/>
              </a:rPr>
              <a:t>تقرير النجاز الشهري للموظف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1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00"/>
                </a:solidFill>
                <a:latin typeface="Tahoma"/>
              </a:rPr>
              <a:t>دفتر الدوام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1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00"/>
                </a:solidFill>
                <a:latin typeface="Tahoma"/>
              </a:rPr>
              <a:t>أي مصادر أخرى تساعد في دقة التقويم</a:t>
            </a:r>
            <a:r>
              <a:rPr b="0" lang="ar-SA" sz="4400" spc="-1" strike="noStrike">
                <a:solidFill>
                  <a:srgbClr val="aaa578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ثالث عشر</a:t>
            </a: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السلوك العام ( القدوة الحسنة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التزام بسلوكيات المجتمع الاسلامي ،وأخلاقة وأدابة وكونة قدوة حسنة قولا وعملا في تعاملة  وسماته الشخصي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رابع عشر</a:t>
            </a: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تقدير المسؤولية 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مدى الشعور والجدية لمسؤوليات عملة ،وواجباته وحماسة  في أدائه ووفائه بالالتزامات التعليمية والتربوي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خامس عشر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تقبل التوجيهات (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يسمع لمسئوليه ويتقبل منهم توجيهات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وينفذ ما يتم التوجيه بما يتفق مع سياسة التعليم والمصلحة العام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سادس عشر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حسن التصرف (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قدرته على التعامل بشكل سليم مع المواقف الحساسه  وايجاد الحلول المناسبه له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سابع عشر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علاقات المدرس مع الرؤساء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قيامه بواجباته وتفهمه لرؤوسا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، وتقبله توجيهاته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ثامن عشر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علاقة المدرس مع الزملاء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شاعة روح المحبه والاخاء بين زملائه المعلمين ويكون على خلق ومعاملة حسنه معه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تاسع عشر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علاقات المدرس مع الطلاب وأولياء الأمور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عامل بلطف وبشاشة  ومعاملة ابوية مع التلاميذ وتفهمة مع اولياء الامور والتعاون معه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cc0000"/>
                </a:solidFill>
                <a:latin typeface="Tahoma"/>
              </a:rPr>
              <a:t>الموظف الجديد في سنة التجربة</a:t>
            </a:r>
            <a:endParaRPr b="0" lang="en-US" sz="6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86532"/>
                </a:solidFill>
                <a:latin typeface="Tahoma"/>
              </a:rPr>
              <a:t>أهداف فترة التجربة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عد فترة التجربة من أهم المراحل في حياة الموظف الوظيفية باعتبارها فترة تهيئة واختبار تستهدف الجوانب التالية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هيئة الموظف عملياً لممارسة مهام الوظيفة    المرشح لها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رسيخ المفاهيم لاأساسية للخدمة المدني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كشف عن قدراته وميوله العملي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حقق من مدى صلاحيته لشغل الوظيفه المعين عليها تمهيداً لتثبيته عليه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69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تعبئة خانات المعلومات الاساسية عن الموظف والوظيفة والمعلومات الاخرى الموضحة بالصفحة الاولى من النموذج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اعطاء الدرجة المناسبة عن كل عنصر من عناصر التقويم المحددة بالصفحة الثانية من النموذج حسب الفترة المعد عنها التقرير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تحديد المجموع الكلي للدرجات ومن ثم التقرير النهائي الذي حصل عليه الموظف في الحقل المخصص لذلك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تدوين ملاحظاته وتوصياته لتطوير قدرات الموظف (إن وجدت) في الحقل المخصص لذل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يوضح نعتمد التقرير رأيه ومدى موافقته على ما ورد به ، ومن ثم اعتماده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في حالة حصول الموظف في الفترة الأولى على مجموع درجات أقل من (</a:t>
            </a: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30</a:t>
            </a: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) درجة فيجب على الادارة لها لفت نظره حول تدني أدائه وذلك خلال شهرين من تاريخ انتهاء الفتر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 يحفظ التقرير في ملف الموظف لحين موعد إعداد التقرير عن الفترة الثاني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بعد اعتماد اللتقرير في الفترة الثانية يتم إطلاع الموظف عليه لمعرفة وجهة نظر الادارة حول أدائه ولتحسين وضعه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يحال التقرير لإدارة شؤون المعلمين  لعرضه على صاحب الصلاحية قبل مضي أحد عشر شهراً من تاريخ مباشرة الموظف عمله ،(عدا فترة الانقطاع 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86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خواني  هذا ما استطعت ان اقدمه لكم عن هذا الموضوع فمن رأي اضافة او تعديل له الحق ولست انا افهم منك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لكم مني الدعاء بالتوفيق والعدل بين معلميكم ومراعاة الله في الانصاف بينهم ومصارحتهم بعيوبه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00"/>
                </a:solidFill>
                <a:latin typeface="Tahoma"/>
              </a:rPr>
              <a:t>                              اخوكم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         عــــــــــامر  عوا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من تعليم محافظة القري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cc0000"/>
                </a:solidFill>
                <a:latin typeface="Tahoma"/>
              </a:rPr>
              <a:t>ما تتضمنة اللا ئحة  من تفسيرات</a:t>
            </a:r>
            <a:r>
              <a:rPr b="0" lang="ar-SA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عد تقارير تقويم الاداء الوظيفي للموظفين سنويا، ويستثنى منهم شاغلو الوظائف القيادية ممن هم في مرتبة الوكلاء والوكلاء المساعدين ومن في مستواهم الوظيفي ومن ترى الجهة المعنية استثناءه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كون التقارير وفقا للنماذج المقررة والواجبات والمسئوليات المحددة لكل موظف ويقدر اداؤه باحد التقديرات  (ممتاز، جيد جدا، جيد، مرضي، غير مرض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cc0000"/>
                </a:solidFill>
                <a:latin typeface="Tahoma"/>
              </a:rPr>
              <a:t>ملاحظة هامة لجميع الاخوة المدراء</a:t>
            </a:r>
            <a:endParaRPr b="0" lang="en-US" sz="6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15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86532"/>
                </a:solidFill>
                <a:latin typeface="Tahoma"/>
              </a:rPr>
              <a:t>  للموظف حق الاطلاع على تقرير الاداء المعد عنه وابداء وجهة نظره فيه مع رئيسه</a:t>
            </a:r>
            <a:r>
              <a:rPr b="0" lang="en-US" sz="6000" spc="-1" strike="noStrike">
                <a:solidFill>
                  <a:srgbClr val="686532"/>
                </a:solidFill>
                <a:latin typeface="Tahom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c0000"/>
                </a:solidFill>
                <a:latin typeface="Tahoma"/>
              </a:rPr>
              <a:t>مصطلحات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9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86532"/>
                </a:solidFill>
                <a:latin typeface="Tahoma"/>
              </a:rPr>
              <a:t>اسم معد التقرير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</a:rPr>
              <a:t>، وظيفته، توقيعه وتاريخ الاعداد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9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</a:rPr>
              <a:t>                وصف هذه المعلومات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9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86532"/>
                </a:solidFill>
                <a:latin typeface="Tahoma"/>
              </a:rPr>
              <a:t>معد التقرير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</a:rPr>
              <a:t>: هومدير المدرسة او من ينوب عنة ومعطى الصلاحية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9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86532"/>
                </a:solidFill>
                <a:latin typeface="Tahoma"/>
              </a:rPr>
              <a:t>وظيفتة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</a:rPr>
              <a:t>  مدير المدرسة او من ينوب عنة في حالة كونه في دورة او مايمنعة من التواجد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86532"/>
                </a:solidFill>
                <a:latin typeface="Tahoma"/>
              </a:rPr>
              <a:t>تاريخ الاعداد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</a:rPr>
              <a:t> : وهو تاريخ اعتمادها من قبل مدير المدرسة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اسم معتمد التقرير، وظيفته، توقيعه وتاريخ الاعتماد</a:t>
            </a: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                 اسم معتمد التقري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b8800"/>
                </a:solidFill>
                <a:latin typeface="Tahoma"/>
              </a:rPr>
              <a:t>ان معتمد التقرير هو رئيس الاشراف التربوي اومن ينوب عن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hi-IN" sz="3200" spc="-1" strike="noStrike">
                <a:solidFill>
                  <a:srgbClr val="cc0000"/>
                </a:solidFill>
                <a:latin typeface="Tahoma"/>
              </a:rPr>
              <a:t>وظيفت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b8800"/>
                </a:solidFill>
                <a:latin typeface="Tahoma"/>
              </a:rPr>
              <a:t>رئيس الاشراف اومن ينوب عنه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0000"/>
                </a:solidFill>
                <a:latin typeface="Tahoma"/>
              </a:rPr>
              <a:t>ملاحظة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Tahoma"/>
              </a:rPr>
              <a:t>مدير المدرسة  :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يقيمه مشرف الادارة المدرس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Tahoma"/>
              </a:rPr>
              <a:t>مدير المدرسة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يقيم جميع معلمية ووكيلة والمرشد الطلابي ومحضر المختب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ليس من صلاحيات مدير المدرسة حجب معلمية عن الاطلا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على ماحصلوا علية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اول</a:t>
            </a: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الالتزام باستخدام اللغة الفصحى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وهو استخدام المعلم لغة فصيحة مناسبة  لمستوى الطلاب ،ولطبيعة موضوع الدر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ثاني</a:t>
            </a: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الحرص على تنظيم النشاط المدرسي وتقبله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ويلاحظ ذلك من خلال مشاركة المعلم في الانشطة المدرسية وقدرتة على الاستفادة من الفرص والامكانات الموجودة وتوظيفها لتفعيل النشاطالمدرسي من خلال "جماعات النشاط—والاذاعة .. والمسبقات ...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21:30:05Z</dcterms:created>
  <dc:creator>A</dc:creator>
  <dc:description/>
  <dc:language>en-US</dc:language>
  <cp:lastModifiedBy>A</cp:lastModifiedBy>
  <dcterms:modified xsi:type="dcterms:W3CDTF">2005-01-07T23:29:42Z</dcterms:modified>
  <cp:revision>51</cp:revision>
  <dc:subject/>
  <dc:title>تفسير لائحة تقويم الاداء الوظيفي</dc:title>
</cp:coreProperties>
</file>