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051-0C3E-4A7E-BC7F-4226803E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FB0-52A0-4876-BA51-B2B152E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659A-E0AC-4355-BEDC-4852F1939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A3C-A2B6-4358-92D1-B5501BB9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F929-F97C-44DA-B151-F3DC64B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A87-5A05-40B2-B7C6-760A10FC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A33-826D-4E90-8937-56B03F14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C624-4C55-42C7-AAD0-B2F17C86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27F-7F73-46AA-91C1-6B2F80C1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F90-AFC6-4CAD-9630-053ADBDC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F2D-5C5E-4108-B409-0281486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847-526E-4A87-8D3D-156BB1A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1663-D475-4DE1-B547-09F5988D1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137440" cy="34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حالة الأولى لتشابة مثلث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تمه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لقد علمنا أن شرط تشابة مثلثين هو أن يتناسب أضلاعها وتطابق زوايا هما المواجة للأطلاع المتناسبة .وفيما يلي سوف نقلل عدد الشروط الواجب توفرها لاثبات تشابة مثلثين . وهو ما نسميه حالات تشابة مثلث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الحالة الأولى لتشابة مثل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924280"/>
            <a:ext cx="784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يتشابة مثلثان إذا تطابقت زاويتان من أحد هما مع زاويتين من ألأخ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78936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7280" y="4292640"/>
            <a:ext cx="2089080" cy="187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4292640"/>
            <a:ext cx="2089080" cy="1873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18560" y="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0"/>
            <a:ext cx="7129440" cy="70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على الشكل 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 :أ 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ج د إذا كا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:.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م ب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م 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 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م 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 أ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م ،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د ج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م فأوج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 ب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 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 ب// ج 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.أ = 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 ب = ج بالتبادل أيضا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. المثلثان أ م ب ، د م ج متشابهان ، ومن تشابهما ينت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ـــــــــــــ = ـــــــــــــ = ــــــــــ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:. ـــــــــــ = ـــــــــــــــ = ــــــ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ن التناسب: ــــــــــــــ = ــــــــــــ ، ينتج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 ب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 ــــــــــــــ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سم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من التناسب : ــــــــــــ = ـــــــــــــــ ، ينتج :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م د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= ـــــــــــــ =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س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465440" cy="2295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285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357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3068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م ب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3357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م ج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3068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أ ب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3429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ج ب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3068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م أ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80536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328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م د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93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9308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393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أ ب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933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41497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 م ج 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5084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7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أ ب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1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4869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2000" y="6093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6165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587700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32360" y="6021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م د </a:t>
            </a: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5805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4720" y="5805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236000" y="189000"/>
            <a:ext cx="158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000000"/>
                </a:solidFill>
                <a:latin typeface="Arial"/>
              </a:rPr>
              <a:t>تدريب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268280"/>
            <a:ext cx="849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على الشكل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: إذا كان  ب = س ، أ = 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فاحسب ا أ ب ا ، ا ص ك 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2781360"/>
            <a:ext cx="865080" cy="1871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2781360"/>
            <a:ext cx="865080" cy="187164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7672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64200" y="3860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3500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360" y="35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4714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48360" y="2492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581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4653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492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465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13:47:58Z</dcterms:created>
  <dc:creator>*</dc:creator>
  <dc:description/>
  <dc:language>en-US</dc:language>
  <cp:lastModifiedBy>.</cp:lastModifiedBy>
  <dcterms:modified xsi:type="dcterms:W3CDTF">2064-04-19T17:01:04Z</dcterms:modified>
  <cp:revision>7</cp:revision>
  <dc:subject/>
  <dc:title>الشريحة 1</dc:title>
</cp:coreProperties>
</file>