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applause.wav" ContentType="audio/x-wav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0330-580F-4BEC-9F26-D4785D88A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B5C5-9554-4838-9172-D90721D25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DA49-916F-4221-B121-F3EB65CA6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0116-F510-4B2F-822D-52301E438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E12C-DC9E-4927-9613-B6D3ED3A8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378D-EBA5-4577-9F7A-F75732BCC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C68A-1FC2-42C8-8242-481054BEB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7CC9-8FC6-43A7-A837-1E0B464C7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FED9-E6BE-4131-B62A-377E880FA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56D2-BB14-40DC-BCCF-A246C5E15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737A-82E3-446A-8307-F620E4009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4DF4-5725-474C-A102-382CD98C7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252E7-8683-4EF5-AD46-06D37A52F8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hyperlink" Target="file:///&#1575;&#1604;&#1575;&#1593;&#1583;&#1575;&#1583;%20&#1575;&#1604;&#1606;&#1587;&#1576;&#1610;&#1577;.ppt" TargetMode="External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195640" y="2133720"/>
            <a:ext cx="4968720" cy="237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PT Bold Stars"/>
              </a:rPr>
              <a:t>رائع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PT Bold Stars"/>
              <a:ea typeface="PT Bold Stars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364000" y="4149720"/>
            <a:ext cx="2533680" cy="1689120"/>
          </a:xfrm>
          <a:prstGeom prst="rect">
            <a:avLst/>
          </a:prstGeom>
          <a:ln w="0">
            <a:noFill/>
          </a:ln>
        </p:spPr>
      </p:pic>
      <p:sp>
        <p:nvSpPr>
          <p:cNvPr id="43" name="">
            <a:hlinkClick r:id="rId3"/>
          </p:cNvPr>
          <p:cNvSpPr/>
          <p:nvPr/>
        </p:nvSpPr>
        <p:spPr>
          <a:xfrm>
            <a:off x="395280" y="5516640"/>
            <a:ext cx="720720" cy="360360"/>
          </a:xfrm>
          <a:custGeom>
            <a:avLst/>
            <a:gdLst>
              <a:gd name="textAreaLeft" fmla="*/ 23040 w 720720"/>
              <a:gd name="textAreaRight" fmla="*/ 697680 w 720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178" h="21600">
                <a:moveTo>
                  <a:pt x="0" y="0"/>
                </a:moveTo>
                <a:lnTo>
                  <a:pt x="43178" y="0"/>
                </a:lnTo>
                <a:lnTo>
                  <a:pt x="43178" y="21600"/>
                </a:lnTo>
                <a:lnTo>
                  <a:pt x="0" y="21600"/>
                </a:lnTo>
                <a:close/>
              </a:path>
              <a:path fill="lightenLess" w="43178" h="21600">
                <a:moveTo>
                  <a:pt x="0" y="0"/>
                </a:moveTo>
                <a:lnTo>
                  <a:pt x="43178" y="0"/>
                </a:lnTo>
                <a:lnTo>
                  <a:pt x="41778" y="1400"/>
                </a:lnTo>
                <a:lnTo>
                  <a:pt x="1400" y="1400"/>
                </a:lnTo>
                <a:close/>
              </a:path>
              <a:path fill="darken" w="43178" h="21600">
                <a:moveTo>
                  <a:pt x="43178" y="0"/>
                </a:moveTo>
                <a:lnTo>
                  <a:pt x="43178" y="21600"/>
                </a:lnTo>
                <a:lnTo>
                  <a:pt x="41778" y="20200"/>
                </a:lnTo>
                <a:lnTo>
                  <a:pt x="41778" y="1400"/>
                </a:lnTo>
                <a:close/>
              </a:path>
              <a:path fill="darkenLess" w="43178" h="21600">
                <a:moveTo>
                  <a:pt x="43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8" y="20200"/>
                </a:lnTo>
                <a:close/>
              </a:path>
              <a:path fill="lighten" w="43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8" h="21600">
                <a:moveTo>
                  <a:pt x="14583" y="7493"/>
                </a:moveTo>
                <a:lnTo>
                  <a:pt x="18090" y="7493"/>
                </a:lnTo>
                <a:lnTo>
                  <a:pt x="18090" y="12828"/>
                </a:lnTo>
                <a:cubicBezTo>
                  <a:pt x="18090" y="13751"/>
                  <a:pt x="18891" y="14482"/>
                  <a:pt x="19927" y="14482"/>
                </a:cubicBezTo>
                <a:lnTo>
                  <a:pt x="21589" y="14482"/>
                </a:lnTo>
                <a:cubicBezTo>
                  <a:pt x="22625" y="14482"/>
                  <a:pt x="23426" y="13751"/>
                  <a:pt x="23426" y="12828"/>
                </a:cubicBezTo>
                <a:lnTo>
                  <a:pt x="23426" y="7493"/>
                </a:lnTo>
                <a:lnTo>
                  <a:pt x="21589" y="7493"/>
                </a:lnTo>
                <a:lnTo>
                  <a:pt x="25097" y="3985"/>
                </a:lnTo>
                <a:lnTo>
                  <a:pt x="28770" y="7493"/>
                </a:lnTo>
                <a:lnTo>
                  <a:pt x="26933" y="7493"/>
                </a:lnTo>
                <a:lnTo>
                  <a:pt x="26933" y="12828"/>
                </a:lnTo>
                <a:cubicBezTo>
                  <a:pt x="26933" y="15596"/>
                  <a:pt x="24357" y="18155"/>
                  <a:pt x="21589" y="18155"/>
                </a:cubicBezTo>
                <a:lnTo>
                  <a:pt x="19927" y="18155"/>
                </a:lnTo>
                <a:cubicBezTo>
                  <a:pt x="17159" y="18155"/>
                  <a:pt x="14583" y="15596"/>
                  <a:pt x="14583" y="12828"/>
                </a:cubicBezTo>
                <a:close/>
              </a:path>
            </a:pathLst>
          </a:cu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9T15:04:31Z</dcterms:created>
  <dc:creator>ac</dc:creator>
  <dc:description/>
  <dc:language>en-US</dc:language>
  <cp:lastModifiedBy>ac</cp:lastModifiedBy>
  <dcterms:modified xsi:type="dcterms:W3CDTF">2004-12-09T16:21:07Z</dcterms:modified>
  <cp:revision>3</cp:revision>
  <dc:subject/>
  <dc:title>الشريحة 1</dc:title>
</cp:coreProperties>
</file>