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camera.wav" ContentType="audio/x-wav"/>
  <Override PartName="/ppt/media/explode.wav" ContentType="audio/x-wav"/>
  <Override PartName="/ppt/media/wind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126-DC39-4A03-96A8-E0ABEB90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CD6-B22E-4D08-A2E6-642A55D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031-A3A0-4838-AA01-225030E5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3D4-B790-4E21-867E-89DFF790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00D-683E-4ADF-9477-13587F5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C54-17F4-4A2C-9A97-1B0C1008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5E0-ABE1-4689-9094-451B256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56D-AC3B-4C1D-9FA3-55C31784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04F-1F13-4738-A4B8-439AE27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6EA-7944-4ACA-B712-F1B631B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844-6A2E-42C0-83E7-13584BA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712-8BAE-464E-BD09-89A8750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B52-B8EB-4EDF-9FAF-36C9ECBA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589;&#1581;&#1610;&#1581;&#1577;%201.ppt" TargetMode="External"/><Relationship Id="rId2" Type="http://schemas.openxmlformats.org/officeDocument/2006/relationships/image" Target="../media/image4.jpeg"/><Relationship Id="rId3" Type="http://schemas.openxmlformats.org/officeDocument/2006/relationships/hyperlink" Target="file:///&#1582;&#1591;&#1575;%201.ppt" TargetMode="External"/><Relationship Id="rId4" Type="http://schemas.openxmlformats.org/officeDocument/2006/relationships/image" Target="../media/image4.jpeg"/><Relationship Id="rId5" Type="http://schemas.openxmlformats.org/officeDocument/2006/relationships/hyperlink" Target="file:///&#1582;&#1591;&#1575;%202.ppt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582;&#1591;&#1575;%203.ppt" TargetMode="External"/><Relationship Id="rId2" Type="http://schemas.openxmlformats.org/officeDocument/2006/relationships/image" Target="../media/image4.jpeg"/><Relationship Id="rId3" Type="http://schemas.openxmlformats.org/officeDocument/2006/relationships/hyperlink" Target="file:///&#1582;&#1591;&#1575;%204.ppt" TargetMode="External"/><Relationship Id="rId4" Type="http://schemas.openxmlformats.org/officeDocument/2006/relationships/image" Target="../media/image4.jpeg"/><Relationship Id="rId5" Type="http://schemas.openxmlformats.org/officeDocument/2006/relationships/hyperlink" Target="file:///&#1589;&#1581;&#1610;&#1581;&#1577;%202.ppt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724280" y="914400"/>
            <a:ext cx="38912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Old Antic Outline Shaded"/>
              </a:rPr>
              <a:t>المقدم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Old Antic Outline Shaded"/>
              <a:ea typeface="Old Antic Outline Shad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be0e3"/>
                </a:solidFill>
                <a:latin typeface="Arial"/>
                <a:cs typeface="DecoType Naskh Variants"/>
              </a:rPr>
              <a:t>ماهي مجموعات الاعداد التي درسناها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956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8006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cccc"/>
                </a:solidFill>
                <a:latin typeface="Arial"/>
                <a:cs typeface="DecoType Naskh Variants"/>
              </a:rPr>
              <a:t>هاتي مثال لعدد نسبي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380880"/>
            <a:ext cx="7391160" cy="22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T Bold Dusky"/>
              </a:rPr>
              <a:t>طريقة طرح الاعداد النسبية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T Bold Dusky"/>
              <a:ea typeface="PT Bold Dusky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819520"/>
            <a:ext cx="66294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9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9999"/>
                </a:solidFill>
                <a:latin typeface="Arial"/>
                <a:cs typeface="Monotype Koufi"/>
              </a:rPr>
              <a:t>احسبي ما يلي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376"/>
              </a:spcBef>
              <a:buClr>
                <a:srgbClr val="deb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b5e9"/>
                </a:solidFill>
                <a:latin typeface="Arial"/>
                <a:ea typeface="Monotype Koufi"/>
              </a:rPr>
              <a:t>( + </a:t>
            </a:r>
            <a:r>
              <a:rPr b="0" lang="en-US" sz="5400" spc="-1" strike="noStrike">
                <a:solidFill>
                  <a:srgbClr val="deb5e9"/>
                </a:solidFill>
                <a:latin typeface="Arial"/>
                <a:ea typeface="Monotype Koufi"/>
              </a:rPr>
              <a:t>3</a:t>
            </a:r>
            <a:r>
              <a:rPr b="0" lang="en-US" sz="5400" spc="-1" strike="noStrike">
                <a:solidFill>
                  <a:srgbClr val="deb5e9"/>
                </a:solidFill>
                <a:latin typeface="Arial"/>
                <a:ea typeface="Monotype Koufi"/>
              </a:rPr>
              <a:t> )  –  ( + </a:t>
            </a:r>
            <a:r>
              <a:rPr b="0" lang="en-US" sz="5400" spc="-1" strike="noStrike">
                <a:solidFill>
                  <a:srgbClr val="deb5e9"/>
                </a:solidFill>
                <a:latin typeface="Arial"/>
                <a:ea typeface="Monotype Koufi"/>
              </a:rPr>
              <a:t>7</a:t>
            </a:r>
            <a:r>
              <a:rPr b="0" lang="en-US" sz="5400" spc="-1" strike="noStrike">
                <a:solidFill>
                  <a:srgbClr val="deb5e9"/>
                </a:solidFill>
                <a:latin typeface="Arial"/>
                <a:ea typeface="Monotype Koufi"/>
              </a:rPr>
              <a:t> )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ccff"/>
                </a:solidFill>
                <a:latin typeface="Arial"/>
                <a:cs typeface="Monotype Koufi"/>
              </a:rPr>
              <a:t>مثال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  <a:ea typeface="Monotype Koufi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  <a:ea typeface="Monotype Koufi"/>
              </a:rPr>
              <a:t> :  احسبي ما يلي مع التبسيط ان امكن؟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675" t="61828" r="9888" b="20376"/>
          <a:stretch/>
        </p:blipFill>
        <p:spPr>
          <a:xfrm>
            <a:off x="990720" y="3352680"/>
            <a:ext cx="723888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ffcc"/>
                </a:solidFill>
                <a:latin typeface="Arial"/>
                <a:cs typeface="Monotype Koufi"/>
              </a:rPr>
              <a:t>مثال</a:t>
            </a:r>
            <a:r>
              <a:rPr b="0" lang="en-US" sz="4000" spc="-1" strike="noStrike">
                <a:solidFill>
                  <a:srgbClr val="ccffcc"/>
                </a:solidFill>
                <a:latin typeface="Arial"/>
                <a:ea typeface="Andalus"/>
              </a:rPr>
              <a:t>2</a:t>
            </a:r>
            <a:r>
              <a:rPr b="0" lang="en-US" sz="4000" spc="-1" strike="noStrike">
                <a:solidFill>
                  <a:srgbClr val="ccffcc"/>
                </a:solidFill>
                <a:latin typeface="Arial"/>
                <a:ea typeface="Monotype Koufi"/>
              </a:rPr>
              <a:t> : احسبي ما يلي مع التبسيط ان امكن؟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83377" r="13563" b="0"/>
          <a:stretch/>
        </p:blipFill>
        <p:spPr>
          <a:xfrm>
            <a:off x="914400" y="2514600"/>
            <a:ext cx="67057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ffff"/>
                </a:solidFill>
                <a:latin typeface="Arial"/>
                <a:cs typeface="Monotype Koufi"/>
              </a:rPr>
              <a:t>مثال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Andalus"/>
              </a:rPr>
              <a:t>3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Monotype Koufi"/>
              </a:rPr>
              <a:t> : احسبي ما يلي مع التبسيط ان امك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1048" t="0" r="14798" b="85159"/>
          <a:stretch/>
        </p:blipFill>
        <p:spPr>
          <a:xfrm>
            <a:off x="838080" y="2971800"/>
            <a:ext cx="723924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لجمع الاعداد النسب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bbe0e3"/>
                </a:solidFill>
                <a:latin typeface="Arial"/>
                <a:cs typeface="Old Antic Bold"/>
              </a:rPr>
              <a:t>اذا كان المقام موحد نأخذ احد المقامين ونجمع البسطين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500"/>
              </a:spcBef>
              <a:buClr>
                <a:srgbClr val="deb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deb5e9"/>
                </a:solidFill>
                <a:latin typeface="Arial"/>
                <a:cs typeface="Old Antic Bold"/>
              </a:rPr>
              <a:t>اذا كانت المقامات مختلفة نوحد المقامات ثم نتبع الطريقة السابق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amera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800"/>
              </a:spcBef>
              <a:buClr>
                <a:srgbClr val="d9e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d9eb9f"/>
                </a:solidFill>
                <a:latin typeface="Arial"/>
                <a:cs typeface="Old Antic Bold"/>
              </a:rPr>
              <a:t>عند طرح الاعداد النسبية نحول عملية الطرح الى عملية جمع النظي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304920"/>
            <a:ext cx="8229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Old Antic Bold"/>
              </a:rPr>
              <a:t>لطرح الاعداد النسبية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Old Antic Bold"/>
              <a:ea typeface="Old Antic Bold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  <a:cs typeface="Old Antic Bold"/>
              </a:rPr>
              <a:t>التطبيق:</a:t>
            </a:r>
            <a:br>
              <a:rPr sz="6000"/>
            </a:br>
            <a:r>
              <a:rPr b="0" lang="hi-IN" sz="6000" spc="-1" strike="noStrike">
                <a:solidFill>
                  <a:srgbClr val="00ff00"/>
                </a:solidFill>
                <a:latin typeface="Arial"/>
                <a:cs typeface="Old Antic Bold"/>
              </a:rPr>
              <a:t>اختاري الاجابة الصحيحة على ما يلي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6396" t="13884" r="6560" b="70502"/>
          <a:stretch/>
        </p:blipFill>
        <p:spPr>
          <a:xfrm>
            <a:off x="609480" y="2895480"/>
            <a:ext cx="76964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1066680"/>
            <a:ext cx="5867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99ff"/>
                </a:solidFill>
                <a:latin typeface="Arial"/>
                <a:cs typeface="Monotype Koufi"/>
              </a:rPr>
              <a:t>الاختيار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rcRect l="71008" t="57732" r="8484" b="32990"/>
          <a:stretch/>
        </p:blipFill>
        <p:spPr>
          <a:xfrm>
            <a:off x="6781680" y="3352680"/>
            <a:ext cx="990720" cy="85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rcRect l="37871" t="56910" r="40040" b="32990"/>
          <a:stretch/>
        </p:blipFill>
        <p:spPr>
          <a:xfrm>
            <a:off x="4343400" y="327672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rcRect l="7887" t="57732" r="71604" b="32990"/>
          <a:stretch/>
        </p:blipFill>
        <p:spPr>
          <a:xfrm>
            <a:off x="2133720" y="3276720"/>
            <a:ext cx="9903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7" name="camera.wav"/>
      </p:stSnd>
    </p:sndAc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Old Antic Bold"/>
              </a:rPr>
              <a:t>التطبيق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Old Antic Bold"/>
              </a:rPr>
              <a:t>2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Old Antic Bol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ff00"/>
                </a:solidFill>
                <a:latin typeface="Arial"/>
                <a:cs typeface="Old Antic Bold"/>
              </a:rPr>
              <a:t>اختاري الاجابة الصحيحة على ما يلي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4202" t="36291" r="10057" b="48042"/>
          <a:stretch/>
        </p:blipFill>
        <p:spPr>
          <a:xfrm>
            <a:off x="1219320" y="3276720"/>
            <a:ext cx="68580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0" y="1599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99ff"/>
                </a:solidFill>
                <a:latin typeface="Arial"/>
                <a:cs typeface="Monotype Koufi"/>
              </a:rPr>
              <a:t>الاختيا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rcRect l="74169" t="72581" r="6903" b="18352"/>
          <a:stretch/>
        </p:blipFill>
        <p:spPr>
          <a:xfrm>
            <a:off x="6705720" y="320040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rcRect l="41024" t="72581" r="38467" b="18352"/>
          <a:stretch/>
        </p:blipFill>
        <p:spPr>
          <a:xfrm>
            <a:off x="4191120" y="320040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rcRect l="6314" t="72581" r="73177" b="18352"/>
          <a:stretch/>
        </p:blipFill>
        <p:spPr>
          <a:xfrm>
            <a:off x="1828800" y="32004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7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50"/>
                            </p:stCondLst>
                            <p:childTnLst>
                              <p:par>
                                <p:cTn id="3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50"/>
                            </p:stCondLst>
                            <p:childTnLst>
                              <p:par>
                                <p:cTn id="3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950"/>
                            </p:stCondLst>
                            <p:childTnLst>
                              <p:par>
                                <p:cTn id="3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41907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34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ccff"/>
                </a:solidFill>
                <a:latin typeface="Arial"/>
                <a:cs typeface="Old Antic Outline Shaded"/>
              </a:rPr>
              <a:t>عرفي مجموعة الاعداد النسبية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838080"/>
            <a:ext cx="6782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Old Antic Decorative"/>
              </a:rPr>
              <a:t>الاعداد النسب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Old Antic Decorative"/>
              <a:ea typeface="Old Antic Decorative"/>
            </a:endParaRPr>
          </a:p>
        </p:txBody>
      </p:sp>
    </p:spTree>
  </p:cSld>
  <p:transition spd="med">
    <p:diamond/>
    <p:sndAc>
      <p:stSnd>
        <p:snd r:embed="rId1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( +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+ ( +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9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( -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6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+ ( -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8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( -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+ ( +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 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62520" y="533520"/>
            <a:ext cx="4495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T Bold Heading"/>
              </a:rPr>
              <a:t>احسبي ما يلي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 spd="med">
    <p:zoom dir="out"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99ff"/>
                </a:solidFill>
                <a:latin typeface="Arial"/>
                <a:cs typeface="PT Bold Heading"/>
              </a:rPr>
              <a:t>كيف نجمع الاعداد النسب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مثال 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1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احسبي ما يلي مع التبسيط ان امكن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0"/>
                <a:ext cx="276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7359" t="18150" r="0" b="61828"/>
          <a:stretch/>
        </p:blipFill>
        <p:spPr>
          <a:xfrm>
            <a:off x="1371600" y="4267080"/>
            <a:ext cx="6934320" cy="162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مثال 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2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احسبي ما يلي مع التبسيط ان امكن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7359" t="0" r="6204" b="83142"/>
          <a:stretch/>
        </p:blipFill>
        <p:spPr>
          <a:xfrm>
            <a:off x="609480" y="3962520"/>
            <a:ext cx="77724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مثال 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3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Old Antic Outline Shade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ccff"/>
                </a:solidFill>
                <a:latin typeface="Arial"/>
                <a:cs typeface="Old Antic Outline Shaded"/>
              </a:rPr>
              <a:t>احسبي ما يلي مع التبسيط ان امكن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2392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609480"/>
            <a:ext cx="8077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Antic Outline Shaded"/>
              </a:rPr>
              <a:t>النظير الجمعي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Antic Outline Shaded"/>
              <a:ea typeface="Old Antic Outline Sha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Antic Outline Shaded"/>
              </a:rPr>
              <a:t> </a:t>
            </a: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Antic Outline Shaded"/>
              </a:rPr>
              <a:t>للاعداد النسبي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Antic Outline Shaded"/>
              <a:ea typeface="Old Antic Outline Shaded"/>
            </a:endParaRPr>
          </a:p>
        </p:txBody>
      </p:sp>
    </p:spTree>
  </p:cSld>
  <p:transition spd="med">
    <p:zoom dir="out"/>
    <p:sndAc>
      <p:stSnd>
        <p:snd r:embed="rId1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ffcc"/>
                </a:solidFill>
                <a:latin typeface="Arial"/>
                <a:cs typeface="Andalus"/>
              </a:rPr>
              <a:t>اوجدي النظير الجمعي للاعداد التالية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+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  ,   +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5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   ,   -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  <a:ea typeface="Andalu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amera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1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ccff"/>
                </a:solidFill>
                <a:latin typeface="Arial"/>
                <a:cs typeface="Andalus"/>
              </a:rPr>
              <a:t>مثال</a:t>
            </a:r>
            <a:r>
              <a:rPr b="0" lang="ar-SA" sz="6000" spc="-1" strike="noStrike">
                <a:solidFill>
                  <a:srgbClr val="00ccff"/>
                </a:solidFill>
                <a:latin typeface="Arial"/>
                <a:ea typeface="Andalus"/>
              </a:rPr>
              <a:t>1</a:t>
            </a:r>
            <a:r>
              <a:rPr b="0" lang="ar-SA" sz="6000" spc="-1" strike="noStrike">
                <a:solidFill>
                  <a:srgbClr val="00ccff"/>
                </a:solidFill>
                <a:latin typeface="Arial"/>
                <a:ea typeface="Andalus"/>
              </a:rPr>
              <a:t> </a:t>
            </a:r>
            <a:r>
              <a:rPr b="0" lang="ar-SA" sz="6000" spc="-1" strike="noStrike">
                <a:solidFill>
                  <a:srgbClr val="cccc00"/>
                </a:solidFill>
                <a:latin typeface="Arial"/>
                <a:ea typeface="Andalus"/>
              </a:rPr>
              <a:t>: احسبي  النظير الجمعي للاعداد النسبية التال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8228" t="69757" r="11898" b="21326"/>
          <a:stretch/>
        </p:blipFill>
        <p:spPr>
          <a:xfrm>
            <a:off x="533520" y="37339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3:06:51Z</dcterms:created>
  <dc:creator>ac</dc:creator>
  <dc:description/>
  <dc:language>en-US</dc:language>
  <cp:lastModifiedBy>ac</cp:lastModifiedBy>
  <dcterms:modified xsi:type="dcterms:W3CDTF">2004-12-09T16:21:29Z</dcterms:modified>
  <cp:revision>32</cp:revision>
  <dc:subject/>
  <dc:title>ماهي مجموعات الاعداد التي درسناها؟</dc:title>
</cp:coreProperties>
</file>