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push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19D-3869-4AC2-9A2A-12A44639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E71-6F9F-4979-9D59-C15AF719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FE0-1DF4-4450-BBCD-E7ADA745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A80-F5F7-47A1-AD3D-6F0BD4BA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338-E2E6-4C8E-8E66-5CCEF4A5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A7A-986C-4BEE-A171-0BCE2EB5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CFA-EC91-482F-89EE-D83F3A8B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95C-F639-4203-916F-516EB72B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063-44C6-4EC1-B625-E5038497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8C3-F34E-4B66-811E-276DB23F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0DF-DBD7-415E-B988-A371EA0E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FB6-0335-4019-8340-062F640D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9B21-A891-438D-B5DB-7AA89AE6B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hyperlink" Target="file:///&#1575;&#1604;&#1575;&#1593;&#1583;&#1575;&#1583;%20&#1575;&#1604;&#1606;&#1587;&#1576;&#1610;&#1577;.ppt" TargetMode="External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2697480" cy="194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2276640"/>
            <a:ext cx="712944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PT Bold Heading"/>
              </a:rPr>
              <a:t>إجابة خاطئة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374920" cy="201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2200320" cy="17701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4"/>
          </p:cNvPr>
          <p:cNvSpPr/>
          <p:nvPr/>
        </p:nvSpPr>
        <p:spPr>
          <a:xfrm>
            <a:off x="395280" y="465300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7493"/>
                </a:moveTo>
                <a:lnTo>
                  <a:pt x="16310" y="7493"/>
                </a:lnTo>
                <a:lnTo>
                  <a:pt x="16310" y="12828"/>
                </a:lnTo>
                <a:cubicBezTo>
                  <a:pt x="16310" y="13751"/>
                  <a:pt x="17111" y="14482"/>
                  <a:pt x="18147" y="14482"/>
                </a:cubicBezTo>
                <a:lnTo>
                  <a:pt x="19809" y="14482"/>
                </a:lnTo>
                <a:cubicBezTo>
                  <a:pt x="20845" y="14482"/>
                  <a:pt x="21645" y="13751"/>
                  <a:pt x="21645" y="12828"/>
                </a:cubicBezTo>
                <a:lnTo>
                  <a:pt x="21645" y="7493"/>
                </a:lnTo>
                <a:lnTo>
                  <a:pt x="19809" y="7493"/>
                </a:lnTo>
                <a:lnTo>
                  <a:pt x="23317" y="3985"/>
                </a:lnTo>
                <a:lnTo>
                  <a:pt x="26990" y="7493"/>
                </a:lnTo>
                <a:lnTo>
                  <a:pt x="25153" y="7493"/>
                </a:lnTo>
                <a:lnTo>
                  <a:pt x="25153" y="12828"/>
                </a:lnTo>
                <a:cubicBezTo>
                  <a:pt x="25153" y="15596"/>
                  <a:pt x="22577" y="18155"/>
                  <a:pt x="19809" y="18155"/>
                </a:cubicBezTo>
                <a:lnTo>
                  <a:pt x="18147" y="18155"/>
                </a:lnTo>
                <a:cubicBezTo>
                  <a:pt x="15379" y="18155"/>
                  <a:pt x="12803" y="15596"/>
                  <a:pt x="12803" y="12828"/>
                </a:cubicBezTo>
                <a:close/>
              </a:path>
            </a:pathLst>
          </a:cu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3:53:15Z</dcterms:created>
  <dc:creator>ac</dc:creator>
  <dc:description/>
  <dc:language>en-US</dc:language>
  <cp:lastModifiedBy>ac</cp:lastModifiedBy>
  <dcterms:modified xsi:type="dcterms:W3CDTF">2004-12-09T16:17:22Z</dcterms:modified>
  <cp:revision>4</cp:revision>
  <dc:subject/>
  <dc:title>الشريحة 1</dc:title>
</cp:coreProperties>
</file>