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push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3303-1CD6-4EAA-BEFB-EF15E3988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EF7F-53D9-4EB5-84C5-CA3839D8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0474-92BE-4352-AE03-F2109F9A4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0732-B955-4D35-8133-F705A045C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64B0-75C9-46C2-BFDB-758E867F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9B8C-80BE-405B-B0DA-EDCDE428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A847-C82B-4B03-8221-80793452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A744-502C-43E4-8D58-990BD036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87C0-425E-4DFD-9F0D-2D85AB73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9AB9-43FC-41AF-AD97-44D9FF26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4481-D9D6-4BA0-93A0-C35B5FD6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EECE-69C0-49DB-B02C-B57191D2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6238-DE0B-476E-8EA9-6122643A5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hyperlink" Target="file:///&#1575;&#1604;&#1575;&#1593;&#1583;&#1575;&#1583;%20&#1575;&#1604;&#1606;&#1587;&#1576;&#1610;&#1577;.ppt" TargetMode="External"/><Relationship Id="rId5" Type="http://schemas.openxmlformats.org/officeDocument/2006/relationships/audio" Target="../media/push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6920" y="4508640"/>
            <a:ext cx="2697480" cy="194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755640" y="2276640"/>
            <a:ext cx="712944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PT Bold Heading"/>
              </a:rPr>
              <a:t>إجابة خاطئة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PT Bold Heading"/>
              <a:ea typeface="PT Bold Heading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43640" y="260280"/>
            <a:ext cx="2374920" cy="2016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2200320" cy="177012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rId4"/>
          </p:cNvPr>
          <p:cNvSpPr/>
          <p:nvPr/>
        </p:nvSpPr>
        <p:spPr>
          <a:xfrm>
            <a:off x="324000" y="479736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7493"/>
                </a:moveTo>
                <a:lnTo>
                  <a:pt x="15902" y="7493"/>
                </a:lnTo>
                <a:lnTo>
                  <a:pt x="15902" y="12828"/>
                </a:lnTo>
                <a:cubicBezTo>
                  <a:pt x="15902" y="13751"/>
                  <a:pt x="16703" y="14482"/>
                  <a:pt x="17739" y="14482"/>
                </a:cubicBezTo>
                <a:lnTo>
                  <a:pt x="19401" y="14482"/>
                </a:lnTo>
                <a:cubicBezTo>
                  <a:pt x="20437" y="14482"/>
                  <a:pt x="21238" y="13751"/>
                  <a:pt x="21238" y="12828"/>
                </a:cubicBezTo>
                <a:lnTo>
                  <a:pt x="21238" y="7493"/>
                </a:lnTo>
                <a:lnTo>
                  <a:pt x="19401" y="7493"/>
                </a:lnTo>
                <a:lnTo>
                  <a:pt x="22909" y="3985"/>
                </a:lnTo>
                <a:lnTo>
                  <a:pt x="26582" y="7493"/>
                </a:lnTo>
                <a:lnTo>
                  <a:pt x="24745" y="7493"/>
                </a:lnTo>
                <a:lnTo>
                  <a:pt x="24745" y="12828"/>
                </a:lnTo>
                <a:cubicBezTo>
                  <a:pt x="24745" y="15596"/>
                  <a:pt x="22169" y="18155"/>
                  <a:pt x="19401" y="18155"/>
                </a:cubicBezTo>
                <a:lnTo>
                  <a:pt x="17739" y="18155"/>
                </a:lnTo>
                <a:cubicBezTo>
                  <a:pt x="14971" y="18155"/>
                  <a:pt x="12395" y="15596"/>
                  <a:pt x="12395" y="12828"/>
                </a:cubicBezTo>
                <a:close/>
              </a:path>
            </a:pathLst>
          </a:custGeom>
          <a:solidFill>
            <a:srgbClr val="bbe0e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9T13:53:15Z</dcterms:created>
  <dc:creator>ac</dc:creator>
  <dc:description/>
  <dc:language>en-US</dc:language>
  <cp:lastModifiedBy>ac</cp:lastModifiedBy>
  <dcterms:modified xsi:type="dcterms:W3CDTF">2004-12-09T16:16:31Z</dcterms:modified>
  <cp:revision>4</cp:revision>
  <dc:subject/>
  <dc:title>الشريحة 1</dc:title>
</cp:coreProperties>
</file>