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push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7B4-0984-4241-A676-4537B95F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52F-4520-4C6A-A2B4-DBEC929C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521-E817-4BC4-B6CD-30C88668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648-039F-4C2C-BC3F-CC07DBA3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D3B-D1AE-4DF1-8FFF-EF7B94B9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14D-31B4-4785-B07E-04A15F03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3F6-6E2B-4ADE-856F-443DF07D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056-45C5-47D8-A108-DFE02856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EB7-3EF3-4F9F-8E70-ABBAC7A6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0D7-3471-4D71-BEDB-C4165393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FA4-F6BE-4735-AAB2-067B7DD4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D1C-9197-414A-8F91-DEB4E0D7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4751-411D-47F3-844E-10BB1FC98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hyperlink" Target="file:///&#1575;&#1604;&#1575;&#1593;&#1583;&#1575;&#1583;%20&#1575;&#1604;&#1606;&#1587;&#1576;&#1610;&#1577;.ppt" TargetMode="External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4508640"/>
            <a:ext cx="2697480" cy="194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2276640"/>
            <a:ext cx="712944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PT Bold Heading"/>
              </a:rPr>
              <a:t>إجابة خاطئة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374920" cy="201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2200320" cy="17701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4"/>
          </p:cNvPr>
          <p:cNvSpPr/>
          <p:nvPr/>
        </p:nvSpPr>
        <p:spPr>
          <a:xfrm>
            <a:off x="468360" y="4508640"/>
            <a:ext cx="790560" cy="433080"/>
          </a:xfrm>
          <a:custGeom>
            <a:avLst/>
            <a:gdLst>
              <a:gd name="textAreaLeft" fmla="*/ 28080 w 790560"/>
              <a:gd name="textAreaRight" fmla="*/ 762480 w 7905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15" h="21600">
                <a:moveTo>
                  <a:pt x="0" y="0"/>
                </a:moveTo>
                <a:lnTo>
                  <a:pt x="39415" y="0"/>
                </a:lnTo>
                <a:lnTo>
                  <a:pt x="39415" y="21600"/>
                </a:lnTo>
                <a:lnTo>
                  <a:pt x="0" y="21600"/>
                </a:lnTo>
                <a:close/>
              </a:path>
              <a:path fill="lightenLess" w="39415" h="21600">
                <a:moveTo>
                  <a:pt x="0" y="0"/>
                </a:moveTo>
                <a:lnTo>
                  <a:pt x="39415" y="0"/>
                </a:lnTo>
                <a:lnTo>
                  <a:pt x="38015" y="1400"/>
                </a:lnTo>
                <a:lnTo>
                  <a:pt x="1400" y="1400"/>
                </a:lnTo>
                <a:close/>
              </a:path>
              <a:path fill="darken" w="39415" h="21600">
                <a:moveTo>
                  <a:pt x="39415" y="0"/>
                </a:moveTo>
                <a:lnTo>
                  <a:pt x="39415" y="21600"/>
                </a:lnTo>
                <a:lnTo>
                  <a:pt x="38015" y="20200"/>
                </a:lnTo>
                <a:lnTo>
                  <a:pt x="38015" y="1400"/>
                </a:lnTo>
                <a:close/>
              </a:path>
              <a:path fill="darkenLess" w="39415" h="21600">
                <a:moveTo>
                  <a:pt x="39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15" y="20200"/>
                </a:lnTo>
                <a:close/>
              </a:path>
              <a:path fill="lighten" w="39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15" h="21600">
                <a:moveTo>
                  <a:pt x="12701" y="7493"/>
                </a:moveTo>
                <a:lnTo>
                  <a:pt x="16208" y="7493"/>
                </a:lnTo>
                <a:lnTo>
                  <a:pt x="16208" y="12828"/>
                </a:lnTo>
                <a:cubicBezTo>
                  <a:pt x="16208" y="13751"/>
                  <a:pt x="17009" y="14482"/>
                  <a:pt x="18045" y="14482"/>
                </a:cubicBezTo>
                <a:lnTo>
                  <a:pt x="19707" y="14482"/>
                </a:lnTo>
                <a:cubicBezTo>
                  <a:pt x="20743" y="14482"/>
                  <a:pt x="21544" y="13751"/>
                  <a:pt x="21544" y="12828"/>
                </a:cubicBezTo>
                <a:lnTo>
                  <a:pt x="21544" y="7493"/>
                </a:lnTo>
                <a:lnTo>
                  <a:pt x="19707" y="7493"/>
                </a:lnTo>
                <a:lnTo>
                  <a:pt x="23215" y="3985"/>
                </a:lnTo>
                <a:lnTo>
                  <a:pt x="26888" y="7493"/>
                </a:lnTo>
                <a:lnTo>
                  <a:pt x="25051" y="7493"/>
                </a:lnTo>
                <a:lnTo>
                  <a:pt x="25051" y="12828"/>
                </a:lnTo>
                <a:cubicBezTo>
                  <a:pt x="25051" y="15596"/>
                  <a:pt x="22475" y="18155"/>
                  <a:pt x="19707" y="18155"/>
                </a:cubicBezTo>
                <a:lnTo>
                  <a:pt x="18045" y="18155"/>
                </a:lnTo>
                <a:cubicBezTo>
                  <a:pt x="15277" y="18155"/>
                  <a:pt x="12701" y="15596"/>
                  <a:pt x="12701" y="12828"/>
                </a:cubicBezTo>
                <a:close/>
              </a:path>
            </a:pathLst>
          </a:cu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3:53:15Z</dcterms:created>
  <dc:creator>ac</dc:creator>
  <dc:description/>
  <dc:language>en-US</dc:language>
  <cp:lastModifiedBy>ac</cp:lastModifiedBy>
  <dcterms:modified xsi:type="dcterms:W3CDTF">2004-12-09T16:18:50Z</dcterms:modified>
  <cp:revision>4</cp:revision>
  <dc:subject/>
  <dc:title>الشريحة 1</dc:title>
</cp:coreProperties>
</file>