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91B-F7A6-4DF1-A70E-D66B28D7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94B-9884-4F64-8DA2-78E8793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EA2-3509-491A-8422-F3C8C8DB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F34-AB31-4562-82FA-124AE226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D0D-ED1F-433A-871A-85D30C16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E8A-6176-4FD5-B557-E5554F3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1A2-D3DA-4DB0-9183-D274726D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5ED-40BF-4C19-BC87-FA1F8388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735-C907-4863-B895-3E150F1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CDD-2EC8-4CAF-9015-AA0B67E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9AE-936D-4281-A41C-DCD7B44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A8A-D493-4C99-9B1D-2F5499E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625-7BC4-4580-968A-3D324B19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file:///&#1575;&#1604;&#1575;&#1593;&#1583;&#1575;&#1583;%20&#1575;&#1604;&#1606;&#1587;&#1576;&#1610;&#1577;.ppt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697480" cy="19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227664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T Bold Heading"/>
              </a:rPr>
              <a:t>إجابة خاطئ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37492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200320" cy="17701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468360" y="458136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7493"/>
                </a:moveTo>
                <a:lnTo>
                  <a:pt x="18083" y="7493"/>
                </a:lnTo>
                <a:lnTo>
                  <a:pt x="18083" y="12828"/>
                </a:lnTo>
                <a:cubicBezTo>
                  <a:pt x="18083" y="13751"/>
                  <a:pt x="18884" y="14482"/>
                  <a:pt x="19920" y="14482"/>
                </a:cubicBezTo>
                <a:lnTo>
                  <a:pt x="21582" y="14482"/>
                </a:lnTo>
                <a:cubicBezTo>
                  <a:pt x="22618" y="14482"/>
                  <a:pt x="23418" y="13751"/>
                  <a:pt x="23418" y="12828"/>
                </a:cubicBezTo>
                <a:lnTo>
                  <a:pt x="23418" y="7493"/>
                </a:lnTo>
                <a:lnTo>
                  <a:pt x="21582" y="7493"/>
                </a:lnTo>
                <a:lnTo>
                  <a:pt x="25090" y="3985"/>
                </a:lnTo>
                <a:lnTo>
                  <a:pt x="28763" y="7493"/>
                </a:lnTo>
                <a:lnTo>
                  <a:pt x="26926" y="7493"/>
                </a:lnTo>
                <a:lnTo>
                  <a:pt x="26926" y="12828"/>
                </a:lnTo>
                <a:cubicBezTo>
                  <a:pt x="26926" y="15596"/>
                  <a:pt x="24350" y="18155"/>
                  <a:pt x="21582" y="18155"/>
                </a:cubicBezTo>
                <a:lnTo>
                  <a:pt x="19920" y="18155"/>
                </a:lnTo>
                <a:cubicBezTo>
                  <a:pt x="17152" y="18155"/>
                  <a:pt x="14576" y="15596"/>
                  <a:pt x="14576" y="12828"/>
                </a:cubicBezTo>
                <a:close/>
              </a:path>
            </a:pathLst>
          </a:custGeom>
          <a:solidFill>
            <a:srgbClr val="bbe0e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3:15Z</dcterms:created>
  <dc:creator>ac</dc:creator>
  <dc:description/>
  <dc:language>en-US</dc:language>
  <cp:lastModifiedBy>ac</cp:lastModifiedBy>
  <dcterms:modified xsi:type="dcterms:W3CDTF">2004-12-09T16:18:11Z</dcterms:modified>
  <cp:revision>4</cp:revision>
  <dc:subject/>
  <dc:title>الشريحة 1</dc:title>
</cp:coreProperties>
</file>