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C25-7AF5-48A6-9FCF-CF4128BA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406-D580-48F2-A96D-FB817480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7A1-7A9D-4AE1-B78E-4AA78731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992-0E06-437F-A959-47D16752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12E-7369-490E-839E-AB6E60F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797-6565-4F37-9F50-5BD7C60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CD8-5FEC-4A5F-AD69-C6983B65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370-7CA6-4E2F-9EA8-E0FCB20A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4FB-BFC9-4131-A442-AAAD277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E45-46FE-4486-B000-FC1F8859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5E0-98D0-4038-9452-0FB0C86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B09-BE3B-4625-B05C-B81B023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C78E-97EE-4D68-BB93-B4B9B759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&#1575;&#1604;&#1575;&#1593;&#1583;&#1575;&#1583;%20&#1575;&#1604;&#1606;&#1587;&#1576;&#1610;&#1577;.ppt" TargetMode="Externa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133720"/>
            <a:ext cx="496872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PT Bold Stars"/>
              </a:rPr>
              <a:t>رائ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533680" cy="168912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250920" y="580536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7493"/>
                </a:moveTo>
                <a:lnTo>
                  <a:pt x="21270" y="7493"/>
                </a:lnTo>
                <a:lnTo>
                  <a:pt x="21270" y="12828"/>
                </a:lnTo>
                <a:cubicBezTo>
                  <a:pt x="21270" y="13751"/>
                  <a:pt x="22071" y="14482"/>
                  <a:pt x="23106" y="14482"/>
                </a:cubicBezTo>
                <a:lnTo>
                  <a:pt x="24769" y="14482"/>
                </a:lnTo>
                <a:cubicBezTo>
                  <a:pt x="25805" y="14482"/>
                  <a:pt x="26605" y="13751"/>
                  <a:pt x="26605" y="12828"/>
                </a:cubicBezTo>
                <a:lnTo>
                  <a:pt x="26605" y="7493"/>
                </a:lnTo>
                <a:lnTo>
                  <a:pt x="24769" y="7493"/>
                </a:lnTo>
                <a:lnTo>
                  <a:pt x="28276" y="3985"/>
                </a:lnTo>
                <a:lnTo>
                  <a:pt x="31949" y="7493"/>
                </a:lnTo>
                <a:lnTo>
                  <a:pt x="30113" y="7493"/>
                </a:lnTo>
                <a:lnTo>
                  <a:pt x="30113" y="12828"/>
                </a:lnTo>
                <a:cubicBezTo>
                  <a:pt x="30113" y="15596"/>
                  <a:pt x="27537" y="18155"/>
                  <a:pt x="24769" y="18155"/>
                </a:cubicBezTo>
                <a:lnTo>
                  <a:pt x="23106" y="18155"/>
                </a:lnTo>
                <a:cubicBezTo>
                  <a:pt x="20339" y="18155"/>
                  <a:pt x="17762" y="15596"/>
                  <a:pt x="17762" y="12828"/>
                </a:cubicBezTo>
                <a:close/>
              </a:path>
            </a:pathLst>
          </a:cu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1:58:12Z</dcterms:created>
  <dc:creator>ac</dc:creator>
  <dc:description/>
  <dc:language>en-US</dc:language>
  <cp:lastModifiedBy>ac</cp:lastModifiedBy>
  <dcterms:modified xsi:type="dcterms:W3CDTF">2004-12-09T16:21:23Z</dcterms:modified>
  <cp:revision>6</cp:revision>
  <dc:subject/>
  <dc:title>الشريحة 1</dc:title>
</cp:coreProperties>
</file>