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2DF1-FADE-4A4C-90AE-6223D1AE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495A-A24A-4C3E-9663-C2DB8ED7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A5953-59DA-4BBE-A083-C4C7068E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C9B6E-5DB8-4D13-91E2-7481F935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8D239-E29F-4803-990C-38B7512D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2AF68-CE49-499D-8AF0-2464B690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598D9-BAE1-4D25-8ECA-AB9C1D20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C1BE6-BEC4-46D6-BEC0-A79CF624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696F9-BD2E-4668-92C5-8A8E4BE7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835A9-24B7-4739-8FB5-B873867A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8D1DE-50B6-4A16-AA5B-94B31C39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E3A37-D4E3-4B5C-953D-2AE6130F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A706-6300-4649-B9F7-92064ECA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5ACC7-1B59-4C7C-B011-09594CBA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8D5C6-826A-47D5-BC10-46486000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7F15E-A08E-43C2-8E20-01479F9A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5676F-17C5-4DA9-8ED8-9E8144B9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65829-C93D-4B5C-BD5D-1694AA36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1E421-B153-4F5D-A003-FD6BD763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6BC26-2345-478E-A922-22A93730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E3ACB-A12C-40AB-961E-DBEBC3D8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27D3C-1E8F-4CDA-862A-85E12F8D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CE30C-E9AC-455C-B3E6-0324705A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5B5A-C354-4493-8C4A-E5218D60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9E92A-D121-4985-87F4-ACA90B2C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09194C-F5C2-4A00-856E-5AC3990F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2E8B8B-9D37-44BA-9AF9-A63FD064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771C1F-3DAD-43A3-8ADF-15BAFEAC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AF9557-FDFB-4A92-A0AF-BEB0C931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85165A-8D4F-4D8D-99CF-A8A91410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6132BF-514B-4DC6-B148-314F58F0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50C014-2704-40C9-B54F-AB6FD036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DA3EBF-ED17-4BA9-BA5C-EEB7677B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732892-26AE-4677-9411-B2DCC393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6A7A-8B4D-4021-AA77-92131E9E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BFBAFB-A13B-429A-AC49-971C76AE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536C29-3B1F-4939-9680-812C33F2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72D755-5CAE-4A0B-8B0C-F2D3AE85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7C7B6-BF90-473B-82FE-1F79D73E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C40A4-823B-4537-B493-4E43F986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7B05F-2F6C-491B-9506-56B573FE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8C954-E277-4D8C-B2DA-BCD6D104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B614B-5AC8-4871-AA1F-A4E8D8C1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BB43C-CD7A-4CFF-995E-7E9B1941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A8C39-5B8A-4F26-BD42-797085EF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F3CB-6A2C-4E1A-AA66-D213FC84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60717-3F53-4F81-B6C5-CB014298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C35D7-B6E0-478A-8A51-4F7C97CC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48ED6-EBAB-44AB-97EB-1D01BB9F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92ADE-0764-444B-A6A9-84110C78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95DF9-EB77-48C3-9A19-79B28EB01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DE4B-E655-41E4-B4ED-2193FF9B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D859-85AF-4AC2-BA12-B499FFE7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9C02-FFC3-430D-AB6D-EFBDD928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EFBD-C0E0-4E3E-9AAE-E7B0A122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31E1-7912-431A-A81E-20115A5A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86CD-DA20-4BC3-A06D-4AE54158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32C4-931B-4970-A721-8F3F40D4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E408-6382-4336-8179-7BB5422E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56CB-4CC8-4B3A-A6A4-0E4C7F01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2E5B-E110-4B6C-B1EF-81091BFF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B3C4-4730-4F96-93C6-40B97DC6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961A2-F4C9-4B71-8DA8-49A9A829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45FA9-1CF9-4600-9D86-F0B9797D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87121-B7A6-4B6F-B7EC-B84358CE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E6E9B-DACC-4C86-B369-4D751069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32267-BBCE-4EAF-8A35-A66B35FD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7887-EE60-4846-9B32-A1214E71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A12CC-4B81-4977-9827-3AF114CE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4A96C-935C-42CB-8427-3E2A7BC9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645B2-8B32-4AE4-B05F-BD788C0F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0D9A2-096C-44D3-814C-803B7C03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F1D9F-D1C6-4876-9562-26F84C61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BBBDE-3604-4DAB-8CE4-EA8FF2D5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1C92A-A61E-403E-9FF7-E25E6200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C49FF-36B6-4EF1-AC02-5C0D3471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E6DF0-E6FB-4344-9154-44221509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D630E-EAD6-49E9-8147-848BDD87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9268-A91F-42F5-A3D9-54532A77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B430D-0951-47C5-9D23-32D23514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88A3B-E26C-4992-AE7E-FC9709F9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7E4F5-6991-4833-9F89-CD558DBD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D3C6A-11D2-4893-89CE-39A1D7C1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7B3F6-DAF2-48ED-8BA5-249C1A82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B2CB5-D9AE-4DF0-8568-30BF15D4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80940-E748-4737-927D-181E3217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C69FA-4D77-4B3F-BE92-7D710A25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A4A1E-2FC1-426C-B022-B6AB9C46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ED10F-D4E0-46F4-A470-FBADF70A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14CE-3398-44AF-AFF9-A18AB96B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9FE79-4104-46CC-A6C0-75385F6F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501FA-0BC0-471F-ABE7-F84BCA10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19CF2-D35D-496A-AC8F-114342B8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06D56-4795-463B-A341-4D0D7B0B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4C10F-4F49-4115-94AB-1B51E484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29315-9FFA-4002-AE02-3602EB9C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E210A-6CFD-4FAB-97F7-CEA58433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B4517-2453-4417-8309-91396A5D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9FA93-BD02-4ACA-9237-DA04D037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79A6A-DAC4-4255-B03C-C732B3BAB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8B48-8188-4447-A4E9-6AB49FB6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B6E98-286A-422B-925C-AA25D695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87AC9-8710-4D38-910C-DF26F615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4BC9C-4D82-4891-8911-18E6AAA7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6EA07-D278-4590-A377-C7AA70A6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1BBC9-2D17-464E-B546-9095800D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A42AE-DE0D-42EE-B34C-502A7ECC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EFF90-02FF-4272-A399-5C615015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C8084-8BCA-48A9-AB0B-A6B31858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51192-ABC3-4AA6-AB99-9908F54C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B5624-BAFE-4C35-B4D0-6598F1ED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72BC-34D5-4A0F-A368-4F3DD7BD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6F6BF-39BB-4E69-BF62-BA888989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7CC88-8E31-456C-B025-A0E908AF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0E6B9-ABFD-4CF6-AF63-7AE3A2FF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754EA7-0B37-4D10-B2B4-F2F84872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5B20F4-D02E-4084-9226-B36A0E98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BE4136-4D58-4721-A8A0-7D310E31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2A01F8-6367-4EE9-9E53-6BF93968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C1549C-B06B-4AEF-A5EC-F0737B24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37B65C-B2FE-4531-AB8F-7695B364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F7B459-B00D-4C3E-B241-C8611093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B734-216B-4A27-BB97-F2B828E1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0821EE-5B96-4B5E-89B7-44CD7CD6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A9A845-4DCE-4548-BC6F-08A75549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8A0360-74EC-4E2A-885B-B6F9C173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73CD9A-572D-400F-83AA-E05CE8A3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AC27D8-6ECA-41A8-966A-F2AF557A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FA363-5D31-47CA-A44D-7116EEF6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B0BBA-61D7-454B-B517-C519DBB5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43A60-94B6-4C9C-BCEB-F45EE1CE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37ED4-E23D-4754-9893-12A7B1A7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AE495-708C-4A67-9519-4C59097B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181D-2B1F-4098-9B76-F1D98913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A0073-E648-4EFE-B35B-4B8FB94E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2AC1A-2551-4068-8C06-F17BD6AB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9FEFF-AC58-4B41-9099-DCB4C42C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25421-0F03-46D9-B0BE-56E60F1A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5ADEB-D977-4597-BABB-00CF943A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B02C0-E6FF-4C85-89D3-396781E3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11FAC-8640-4EB2-9DE6-F1D3E7BC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2F486-9821-4C31-AECF-7F01A7A4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541BD-D296-4551-9FE9-6F7A849F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D47B6-1900-41E9-97E4-E4D23696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F892-097D-4DEA-9701-E4E9D5E3306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680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681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3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87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ftr" idx="29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3B69-D7A9-4106-BD62-C561E3131B7A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DA57-7BEA-4EFB-946D-4121321A332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40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3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65C4-F2EB-45AF-9CDD-C8CC85603767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796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B2A3-D5A8-465E-BF7E-C3F026AC5CC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F0A7-ABD3-485A-A890-25AF30E5B36E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9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2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7AAC-A808-4015-AE85-E62E28AEADFB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7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7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0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DA5C-7D6E-448F-A659-BC9C507C37E4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5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5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7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BCE1-9632-4F5D-B868-9772F5ABA9CB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2F57-E10B-4422-8ED6-8E8657BF1F7C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2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3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7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7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ED6D-C928-4985-A206-6BAC260902A4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626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629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dt" idx="2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sldNum" idx="2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19AC-536C-4A47-A4C9-C26AAE8AB132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-2649600" y="573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ndalus"/>
              </a:rPr>
              <a:t>الدائرة وعناصرها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57200" y="277920"/>
            <a:ext cx="8229600" cy="63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ffffff"/>
                </a:solidFill>
                <a:latin typeface="ALW Cool Hijon."/>
                <a:cs typeface="Bold Italic Art"/>
              </a:rPr>
              <a:t>بسم الله الرحمن الرحيم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remove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-2649600" y="573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Arial"/>
                <a:cs typeface="Andalus"/>
              </a:rPr>
              <a:t>الدائرة وعناصرها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1912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400" spc="-1" strike="noStrike">
                <a:solidFill>
                  <a:srgbClr val="ffffff"/>
                </a:solidFill>
                <a:latin typeface="Arial"/>
                <a:cs typeface="Andalus"/>
              </a:rPr>
              <a:t>الدائرة وعناصرها</a:t>
            </a:r>
            <a:endParaRPr b="0" lang="en-US" sz="10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-2433600" y="595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Arial"/>
                <a:cs typeface="Andalus"/>
              </a:rPr>
              <a:t>الدائرة وعناصرها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remove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-2649600" y="573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ccecff"/>
                </a:solidFill>
                <a:latin typeface="Arial"/>
                <a:cs typeface="Andalus"/>
              </a:rPr>
              <a:t>الدائرة و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ndalus"/>
              </a:rPr>
              <a:t>عناصرها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76720" y="260280"/>
            <a:ext cx="4319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-تعريف الدائرة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042920" y="1473120"/>
            <a:ext cx="7416720" cy="2288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003b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الدائرة هي جميع نقاط المستوى التي تبعد البعد نفسه عن نقطة ثابتة مثلا م هم مركز الدائرة وبعد نقاط الدائرة عنها هو طول نصف قطر الدائر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308720" y="3573360"/>
            <a:ext cx="1295640" cy="57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364000" y="4349880"/>
            <a:ext cx="35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سم الدوائر على الشكل التا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572000" y="4149720"/>
            <a:ext cx="936720" cy="936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003640" y="458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572000" y="4005360"/>
            <a:ext cx="863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295280" y="3573360"/>
            <a:ext cx="2413080" cy="22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692360" y="3933720"/>
            <a:ext cx="1655640" cy="1511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484360" y="46512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556000" y="428940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 flipV="1">
            <a:off x="1692000" y="4509720"/>
            <a:ext cx="718920" cy="142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rot="744000">
            <a:off x="1331280" y="40510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س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1979640" y="4797360"/>
            <a:ext cx="504720" cy="863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rot="18326400">
            <a:off x="1391760" y="49993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س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948360" y="350028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تدري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7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770" fill="hold"/>
                                        <p:tgtEl>
                                          <p:spTgt spid="8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77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770" fill="hold"/>
                                        <p:tgtEl>
                                          <p:spTgt spid="8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-2649600" y="573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e5e5ff"/>
                </a:solidFill>
                <a:latin typeface="Garamond"/>
                <a:cs typeface="Andalus"/>
              </a:rPr>
              <a:t>الدائرة وعناصرها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9" name=""/>
          <p:cNvSpPr/>
          <p:nvPr/>
        </p:nvSpPr>
        <p:spPr>
          <a:xfrm>
            <a:off x="457200" y="277920"/>
            <a:ext cx="82296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e5ff"/>
                </a:solidFill>
                <a:latin typeface="Garamond"/>
              </a:rPr>
              <a:t>2</a:t>
            </a:r>
            <a:r>
              <a:rPr b="0" lang="ar-SA" sz="4400" spc="-1" strike="noStrike">
                <a:solidFill>
                  <a:srgbClr val="e5e5ff"/>
                </a:solidFill>
                <a:latin typeface="Garamond"/>
              </a:rPr>
              <a:t>-الوتر والقو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132000" y="2114640"/>
            <a:ext cx="593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على الشكل المجاور عينا النقطتين أ,ب على الدائرة(م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سمى القطعة المستقيمة [أ,ب]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ترا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الدائرة(م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556000" y="3716280"/>
            <a:ext cx="6516720" cy="9471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135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قطعة مستقيمة طرفاها نقطتان من الدائرة تسمى وتر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50920" y="522144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)ج,د نقطتان على الدائرة (م) الشكل العلوي سم أربعة أوتار في الدائ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ب)سم قوسا طرفاه ج,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26920" y="1268280"/>
            <a:ext cx="2449800" cy="22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826920" y="1700280"/>
            <a:ext cx="216072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059280" y="148428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987640" y="1628640"/>
            <a:ext cx="71640" cy="71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274920" y="2276640"/>
            <a:ext cx="73080" cy="72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419640" y="2133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55640" y="1197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116000" y="1557360"/>
            <a:ext cx="73080" cy="71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95280" y="20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55640" y="2276640"/>
            <a:ext cx="73080" cy="72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597800" y="4508640"/>
            <a:ext cx="1295280" cy="576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308720" y="44370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تدري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124000" y="220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052720" y="2421000"/>
            <a:ext cx="71280" cy="71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-2649600" y="573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eaeaea"/>
                </a:solidFill>
                <a:latin typeface="Tahoma"/>
                <a:cs typeface="Andalus"/>
              </a:rPr>
              <a:t>الدائرة وعناصرها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8" name=""/>
          <p:cNvSpPr/>
          <p:nvPr/>
        </p:nvSpPr>
        <p:spPr>
          <a:xfrm>
            <a:off x="7020000" y="277920"/>
            <a:ext cx="1666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4400" spc="-1" strike="noStrike">
                <a:solidFill>
                  <a:srgbClr val="ffffff"/>
                </a:solidFill>
                <a:latin typeface="Tahoma"/>
              </a:rPr>
              <a:t>-القط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042920" y="1268280"/>
            <a:ext cx="2160720" cy="216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1476360" y="1484280"/>
            <a:ext cx="1295280" cy="17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050920" y="2276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979640" y="20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419640" y="1773360"/>
            <a:ext cx="54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قطر هو أطول وتر في الدائر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340000" y="307512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أي وتر يمر في مركز الدائرة يسمى قطر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669080" y="4076640"/>
            <a:ext cx="1295640" cy="576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380360" y="4005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تدري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132000" y="5013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أرسم أقطار للدائرة (م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-2433600" y="595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eaeaea"/>
                </a:solidFill>
                <a:latin typeface="Tahoma"/>
                <a:cs typeface="Andalus"/>
              </a:rPr>
              <a:t>الدائرة و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ndalus"/>
              </a:rPr>
              <a:t>عناصرها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77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770" fill="hold"/>
                                        <p:tgtEl>
                                          <p:spTgt spid="8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2" dur="77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" dur="77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8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-2649600" y="573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ccecff"/>
                </a:solidFill>
                <a:latin typeface="Arial"/>
                <a:cs typeface="Andalus"/>
              </a:rPr>
              <a:t>الدائرة وعناصرها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992400" y="404640"/>
            <a:ext cx="538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مركز تناظر الدائرة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835280" y="162864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476360" y="692280"/>
            <a:ext cx="86364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826920" y="620640"/>
            <a:ext cx="2160720" cy="216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203640" y="1989000"/>
            <a:ext cx="56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مركز الدائرة هو مركز تناظر لها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763640" y="14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579280" y="3087720"/>
            <a:ext cx="317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رسم الدائر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124000" y="3678120"/>
            <a:ext cx="6624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هناك ثلاثة طرق لرسم الدائر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رسم الدائرة بمعرفة ثلاثة نقط منه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تعيين مركز دائرة مرسوم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رسم دائرة بمعرفة قوس منه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77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3" dur="770" fill="hold"/>
                                        <p:tgtEl>
                                          <p:spTgt spid="9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5" dur="77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7" dur="77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15:46:40Z</dcterms:created>
  <dc:creator>Y</dc:creator>
  <dc:description/>
  <dc:language>en-US</dc:language>
  <cp:lastModifiedBy>Y</cp:lastModifiedBy>
  <dcterms:modified xsi:type="dcterms:W3CDTF">2004-11-13T19:05:54Z</dcterms:modified>
  <cp:revision>6</cp:revision>
  <dc:subject/>
  <dc:title>الدائرة وعناصرها </dc:title>
</cp:coreProperties>
</file>