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0AA-01FA-4C18-A4FF-B751FF02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5D7-0A82-4796-AF72-DB0FAFB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861-775F-481F-B0CD-70DADF1A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6F0-8176-4053-8FD5-DBA29B59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F19-0BFE-4169-A90C-31E0F59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009-EF1D-469E-848A-B19382B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E78-865B-4176-B8B7-3DBDBB1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3E7-4CF9-427D-AF54-B29B377D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17E-CBCB-4F6F-BB6E-BB744339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9EE-C514-47E7-B232-67ACB77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AD03-20B3-48B2-A959-1375D15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E99-81B8-4177-9CF9-CE895AB3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E74-D426-4F35-B1E7-4907D7D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38BD-39A9-408F-997D-6594EB1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0FD2-1067-4F5C-A76B-EBFAB92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820-B07C-40D7-8EDD-0F9A0439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076B-E6B1-4E1E-990F-32133300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6D6-642E-4B00-A04E-5933422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07E-D13C-4F95-868F-2B046A6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BA6-F0DB-43FA-B964-972CD8F1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D2D-78F0-4AD9-9623-C4C904DC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20-7E89-490F-A4CC-455765F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926-703B-467E-A1BD-14CA60B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6E4-5AA3-4B7B-A494-4DC156C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E377-595B-4257-9A6C-DA05EAFE55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EEF-0FD4-44CF-959A-0D7CAD144A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700" spc="-1" strike="noStrike">
                <a:solidFill>
                  <a:srgbClr val="ffffcc"/>
                </a:solidFill>
                <a:latin typeface="Arial"/>
              </a:rPr>
              <a:t>مسائل على الحجوم (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93372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</a:rPr>
              <a:t>مسائل على الحجوم (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hi-IN" sz="4000" spc="-1" strike="noStrike">
                <a:solidFill>
                  <a:srgbClr val="eaeaea"/>
                </a:solidFill>
                <a:latin typeface="Verdana"/>
              </a:rPr>
              <a:t>وعاء به 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54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لتراً من الماء ، أضيف إليه 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23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دسم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من الماء ثم 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1100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سم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فامتلأ الإناء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                 ما سعته باللترات ؟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</a:rPr>
              <a:t>مسائل على الحجوم (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846080"/>
            <a:ext cx="9144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علبة هدية على شكل متوازي المستطيلات أبعاده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0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سم ،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15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سم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سم أردنا تغليفها بورق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   ما مساحة الورق اللازم لذلك 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</a:rPr>
              <a:t>مسائل على الحجوم (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eaeaea"/>
                </a:solidFill>
                <a:latin typeface="Verdana"/>
              </a:rPr>
              <a:t>استخدم محمد ورقاً مقوى مساحته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4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سم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لبناء مكعب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أوجد طول حرفه ؟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</a:rPr>
              <a:t>أوجد حجمه ؟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5600" y="2211120"/>
            <a:ext cx="7931160" cy="36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eaeaea"/>
                </a:solidFill>
                <a:latin typeface="Verdana"/>
              </a:rPr>
              <a:t>نهاية الدرس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Verdana"/>
              </a:rPr>
              <a:t>إعداد : أ . محمد الأسمري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4:14:13Z</dcterms:created>
  <dc:creator>windows</dc:creator>
  <dc:description/>
  <dc:language>en-US</dc:language>
  <cp:lastModifiedBy>windows</cp:lastModifiedBy>
  <dcterms:modified xsi:type="dcterms:W3CDTF">2004-03-20T04:34:22Z</dcterms:modified>
  <cp:revision>5</cp:revision>
  <dc:subject/>
  <dc:title>متوازي المستطيلات </dc:title>
</cp:coreProperties>
</file>