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mera.wav" ContentType="audio/x-wav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E8AB-5113-45C0-854B-B3D2A2F03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7A73-90AE-4294-AAF3-0AF366916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0172-64D3-4A27-B402-EC0911D1B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FA20-5097-4837-9954-21A0B19B6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BCA2-B3F2-43B1-8215-F75734092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6535-8B57-4582-A64D-5FC23FCEA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120A-1239-4139-8BF5-14F62D1A8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6273-2B14-4F20-A24A-5A6BD56A0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4B5E-3B3A-4EBF-8D42-6DC26224C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E0B5-AC89-49CE-9DEB-DFF71588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E188-184B-4D0B-BFFA-5A55A1435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7FF4-13AE-4F14-8E08-5D0168AC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A1B42-C2E0-41CB-93D6-2859BD7F76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050920" y="1125360"/>
            <a:ext cx="4969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abic Transparent"/>
              </a:rPr>
              <a:t>الدرس الثالث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723960" y="2205000"/>
            <a:ext cx="769608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Arabic Transparent"/>
              </a:rPr>
              <a:t>الأطوال في انواع خاصة من المثلثات القائمة الزاوية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Arabic Transparent"/>
              <a:ea typeface="Arabic Transparent"/>
            </a:endParaRPr>
          </a:p>
        </p:txBody>
      </p:sp>
    </p:spTree>
  </p:cSld>
  <p:transition>
    <p:strips dir="ru"/>
    <p:sndAc>
      <p:stSnd>
        <p:snd r:embed="rId1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3300"/>
                </a:solidFill>
                <a:latin typeface="Arial"/>
              </a:rPr>
              <a:t>المثلث القائم الزاوية والمتطابق الضلعي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في المثلث القائم الزاوية والمتطابق الضلعين: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00"/>
                </a:solidFill>
                <a:latin typeface="Arial"/>
                <a:cs typeface="Arabic Transparent"/>
              </a:rPr>
              <a:t>طول الوتر = طول الضلع الزاوية القائمة ×</a:t>
            </a:r>
            <a:r>
              <a:rPr b="1" lang="ar-SA" sz="2800" spc="-1" strike="noStrike">
                <a:solidFill>
                  <a:srgbClr val="008000"/>
                </a:solidFill>
                <a:latin typeface="Arial"/>
                <a:ea typeface="Al-KsorZulfiMath"/>
              </a:rPr>
              <a:t> وذ </a:t>
            </a:r>
            <a:r>
              <a:rPr b="1" lang="ar-SA" sz="2800" spc="-1" strike="noStrike">
                <a:solidFill>
                  <a:srgbClr val="008000"/>
                </a:solidFill>
                <a:latin typeface="Arial"/>
                <a:ea typeface="Arabic Transparen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00"/>
                </a:solidFill>
                <a:latin typeface="Times New Roman"/>
                <a:cs typeface="Arabic Transparent"/>
              </a:rPr>
              <a:t>طول ضلع الزاوية القائمة =  طول الوتر ÷</a:t>
            </a:r>
            <a:r>
              <a:rPr b="1" lang="ar-SA" sz="2800" spc="-1" strike="noStrike">
                <a:solidFill>
                  <a:srgbClr val="008000"/>
                </a:solidFill>
                <a:latin typeface="Times New Roman"/>
                <a:ea typeface="Arabic Transparent"/>
              </a:rPr>
              <a:t>2</a:t>
            </a:r>
            <a:r>
              <a:rPr b="1" lang="ar-SA" sz="2800" spc="-1" strike="noStrike">
                <a:solidFill>
                  <a:srgbClr val="008000"/>
                </a:solidFill>
                <a:latin typeface="Times New Roman"/>
                <a:ea typeface="Arabic Transparent"/>
              </a:rPr>
              <a:t> × </a:t>
            </a:r>
            <a:r>
              <a:rPr b="1" lang="ar-SA" sz="2800" spc="-1" strike="noStrike">
                <a:solidFill>
                  <a:srgbClr val="008000"/>
                </a:solidFill>
                <a:latin typeface="Times New Roman"/>
                <a:cs typeface="Al-KsorZulfiMath"/>
              </a:rPr>
              <a:t>وذ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011640" y="5589720"/>
            <a:ext cx="143964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7451640" y="4149720"/>
            <a:ext cx="0" cy="1441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6011640" y="4149720"/>
            <a:ext cx="1439640" cy="144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219640" y="4508640"/>
            <a:ext cx="172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وت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581360"/>
            <a:ext cx="21600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67280" y="5734080"/>
            <a:ext cx="1584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ضلع الزاوية القائم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308720" y="5445000"/>
            <a:ext cx="142920" cy="1447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2" name="camera.wav"/>
      </p:stSnd>
    </p:sndAc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Arial"/>
              </a:rPr>
              <a:t>أوجد طول الضلع المجهول في كل من المثلثين التاليين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00720" y="1600200"/>
            <a:ext cx="446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451640" y="1989000"/>
            <a:ext cx="0" cy="144000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6011640" y="3429000"/>
            <a:ext cx="143964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012000" y="1989000"/>
            <a:ext cx="1439640" cy="144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236000" y="3213000"/>
            <a:ext cx="21564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227640" y="3068640"/>
            <a:ext cx="43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164360" y="2133720"/>
            <a:ext cx="287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24720" y="2565360"/>
            <a:ext cx="360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</a:rPr>
              <a:t>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227640" y="2492280"/>
            <a:ext cx="57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hi-IN" sz="1800" spc="-1" strike="noStrike">
                <a:solidFill>
                  <a:srgbClr val="000000"/>
                </a:solidFill>
                <a:latin typeface="Arial"/>
                <a:cs typeface="Al-KsorZulfiMath"/>
              </a:rPr>
              <a:t>و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372360" y="3500280"/>
            <a:ext cx="576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</a:rPr>
              <a:t>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00720" y="3789360"/>
            <a:ext cx="4464000" cy="237636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حل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rabic Transparent"/>
              </a:rPr>
              <a:t>طول ضلع الزاوية القائم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Arabic Transparent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66"/>
                </a:solidFill>
                <a:latin typeface="Times New Roman"/>
                <a:cs typeface="Arabic Transparent"/>
              </a:rPr>
              <a:t>طول ضلع الزاوية القائمة =  طول الوتر ÷</a:t>
            </a:r>
            <a:r>
              <a:rPr b="1" lang="ar-SA" sz="2000" spc="-1" strike="noStrike">
                <a:solidFill>
                  <a:srgbClr val="ff0066"/>
                </a:solidFill>
                <a:latin typeface="Times New Roman"/>
                <a:ea typeface="Arabic Transparent"/>
              </a:rPr>
              <a:t>2</a:t>
            </a:r>
            <a:r>
              <a:rPr b="1" lang="ar-SA" sz="2000" spc="-1" strike="noStrike">
                <a:solidFill>
                  <a:srgbClr val="ff0066"/>
                </a:solidFill>
                <a:latin typeface="Times New Roman"/>
                <a:ea typeface="Arabic Transparent"/>
              </a:rPr>
              <a:t> × </a:t>
            </a:r>
            <a:r>
              <a:rPr b="1" lang="ar-SA" sz="2000" spc="-1" strike="noStrike">
                <a:solidFill>
                  <a:srgbClr val="ff0066"/>
                </a:solidFill>
                <a:latin typeface="Times New Roman"/>
                <a:cs typeface="Al-KsorZulfiMath"/>
              </a:rPr>
              <a:t>وذ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l-KsorZulfiMath"/>
              </a:rPr>
              <a:t>وذ ÷ ذ × وذ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l-KsorZulfiMath"/>
              </a:rPr>
              <a:t>وذ × وذ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l-KsorZulfiMath"/>
              </a:rPr>
              <a:t>ذ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32000" y="1989000"/>
            <a:ext cx="0" cy="144000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1692000" y="3429000"/>
            <a:ext cx="143964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1692360" y="1989000"/>
            <a:ext cx="1439640" cy="144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16360" y="3213000"/>
            <a:ext cx="21564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0920" y="3789360"/>
            <a:ext cx="4105080" cy="237636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حل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66"/>
                </a:solidFill>
                <a:latin typeface="Arial"/>
                <a:cs typeface="Arabic Transparent"/>
              </a:rPr>
              <a:t>طول الوتر= طول الضلع الزاوية القائمة </a:t>
            </a:r>
            <a:r>
              <a:rPr b="1" lang="ar-SA" sz="2000" spc="-1" strike="noStrike">
                <a:solidFill>
                  <a:srgbClr val="ff0066"/>
                </a:solidFill>
                <a:latin typeface="Arial"/>
                <a:ea typeface="Al-KsorZulfiMath"/>
              </a:rPr>
              <a:t>× و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66"/>
                </a:solidFill>
                <a:latin typeface="Arial"/>
                <a:cs typeface="Arabic Transparent"/>
              </a:rPr>
              <a:t>طول الوتر</a:t>
            </a:r>
            <a:r>
              <a:rPr b="1" lang="ar-SA" sz="2000" spc="-1" strike="noStrike">
                <a:solidFill>
                  <a:srgbClr val="008000"/>
                </a:solidFill>
                <a:latin typeface="Arial"/>
                <a:ea typeface="Arabic Transparent"/>
              </a:rPr>
              <a:t>=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Arabic Transparent"/>
              </a:rPr>
              <a:t>8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l-KsorZulfiMath"/>
              </a:rPr>
              <a:t>وذ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Arabic Transparent"/>
              </a:rPr>
              <a:t> ×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l-KsorZulfiMath"/>
              </a:rPr>
              <a:t>وذ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Arabic Transparent"/>
              </a:rPr>
              <a:t> =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Arabic Transparent"/>
              </a:rPr>
              <a:t>8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Arabic Transparent"/>
              </a:rPr>
              <a:t>×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l-KsorZulfiMath"/>
              </a:rPr>
              <a:t>ذ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Arabic Transparent"/>
              </a:rPr>
              <a:t>=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Arabic Transparent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27280" y="2205000"/>
            <a:ext cx="57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63640" y="306864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03640" y="2492280"/>
            <a:ext cx="43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  <a:cs typeface="Al-KsorZulfiMath"/>
              </a:rPr>
              <a:t>و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92360" y="2421000"/>
            <a:ext cx="576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</a:rPr>
              <a:t>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2" name="camera.wav"/>
      </p:stSnd>
    </p:sndAc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ff3300"/>
                </a:solidFill>
                <a:latin typeface="Arial"/>
                <a:cs typeface="Arabic Transparent"/>
              </a:rPr>
              <a:t>المثلث الثلاثيني الستين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39640" y="1916280"/>
            <a:ext cx="8209080" cy="158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مثلث الثلاثيني الستيني هو مثلث قائم الزاوية ، قياس زاويته الحادتين هو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30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 ْ ،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60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 ْ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7" name=""/>
          <p:cNvSpPr/>
          <p:nvPr/>
        </p:nvSpPr>
        <p:spPr>
          <a:xfrm>
            <a:off x="6012000" y="4869000"/>
            <a:ext cx="0" cy="14396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132000" y="6308640"/>
            <a:ext cx="2880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132000" y="4869000"/>
            <a:ext cx="2880000" cy="14396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35280" y="5877000"/>
            <a:ext cx="792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003640" y="5013360"/>
            <a:ext cx="1152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4360" y="6021360"/>
            <a:ext cx="287640" cy="287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4653000"/>
            <a:ext cx="431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  <a:cs typeface="Al-KsorZulfiMath"/>
              </a:rPr>
              <a:t>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843280" y="5950080"/>
            <a:ext cx="431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  <a:cs typeface="Al-KsorZulfiMath"/>
              </a:rPr>
              <a:t>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12000" y="5950080"/>
            <a:ext cx="431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  <a:cs typeface="Al-KsorZulfiMath"/>
              </a:rPr>
              <a:t>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1" name="camera.wav"/>
      </p:stSnd>
    </p:sndAc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7200" y="1600200"/>
            <a:ext cx="41860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مثا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أوجد طول الضلع المجهول للمثلث التالي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الحل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طول الضلع المواجه للزاوية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نصف الوتر  إذن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l-KsorZulfiMath"/>
              </a:rPr>
              <a:t> 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في المثلث الثلاثيني الستين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طول الضلع المواجه للزاوية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30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يساو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3300"/>
                </a:solidFill>
                <a:latin typeface="Arial"/>
              </a:rPr>
              <a:t>نصف الوت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في المثلث الثلاثيني الستيني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طول الضلع المواجه للزاوية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60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يساو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3300"/>
                </a:solidFill>
                <a:latin typeface="Arial"/>
              </a:rPr>
              <a:t>نصف الوتر × </a:t>
            </a:r>
            <a:r>
              <a:rPr b="1" lang="hi-IN" sz="2800" spc="-1" strike="noStrike">
                <a:solidFill>
                  <a:srgbClr val="ff3300"/>
                </a:solidFill>
                <a:latin typeface="Arial"/>
                <a:cs typeface="Al-KsorZulfiMath"/>
              </a:rPr>
              <a:t>و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51280" y="3357720"/>
            <a:ext cx="0" cy="143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1476000" y="4797360"/>
            <a:ext cx="237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476360" y="3357360"/>
            <a:ext cx="2374920" cy="143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348000" y="3573360"/>
            <a:ext cx="503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08000" y="4365720"/>
            <a:ext cx="648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635280" y="4581360"/>
            <a:ext cx="21600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195640" y="3573360"/>
            <a:ext cx="720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24360" y="4005360"/>
            <a:ext cx="431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</a:rPr>
              <a:t>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1" name="camera.wav"/>
      </p:stSnd>
    </p:sndAc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تمري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* أوجد طول الارتفاع في مثلث متطابق الأضلاع طول ضلعه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سم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الحل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5292720" y="3429000"/>
            <a:ext cx="1440000" cy="144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292720" y="4869000"/>
            <a:ext cx="287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32720" y="3429000"/>
            <a:ext cx="1439640" cy="144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32720" y="3429000"/>
            <a:ext cx="0" cy="1440000"/>
          </a:xfrm>
          <a:prstGeom prst="line">
            <a:avLst/>
          </a:prstGeom>
          <a:ln w="284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32720" y="4653000"/>
            <a:ext cx="215640" cy="216000"/>
          </a:xfrm>
          <a:prstGeom prst="rect">
            <a:avLst/>
          </a:prstGeom>
          <a:solidFill>
            <a:srgbClr val="ff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516720" y="2924280"/>
            <a:ext cx="43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</a:rPr>
              <a:t>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6720" y="4869000"/>
            <a:ext cx="4316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</a:rPr>
              <a:t>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101080" y="4581360"/>
            <a:ext cx="43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</a:rPr>
              <a:t>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03640" y="4653000"/>
            <a:ext cx="432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</a:rPr>
              <a:t>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80360" y="3860640"/>
            <a:ext cx="43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9280" y="3357720"/>
            <a:ext cx="489744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r>
              <a:rPr b="1" lang="hi-IN" sz="2000" spc="-1" strike="noStrike">
                <a:solidFill>
                  <a:srgbClr val="000000"/>
                </a:solidFill>
                <a:latin typeface="Arial"/>
                <a:cs typeface="Al-KsorZulfiMath"/>
              </a:rPr>
              <a:t>بم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المثلث ا ب ج مثلث متطابق الأضلاع فإن قياس كل زاو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ْ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3300"/>
                </a:solidFill>
                <a:latin typeface="Arial"/>
              </a:rPr>
              <a:t>ومن خصائص الارتفاع في المثلث المتطابق الأضلاع هو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3300"/>
                </a:solidFill>
                <a:latin typeface="Arial"/>
              </a:rPr>
              <a:t>تنصيف الزاوية المار بها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  <a:cs typeface="Al-KsorZulfiMath"/>
              </a:rPr>
              <a:t>إ  ج ا؟ د =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abic Transparent"/>
              </a:rPr>
              <a:t>30ْ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abic Transparent"/>
              </a:rPr>
              <a:t> ,  </a:t>
            </a:r>
            <a:r>
              <a:rPr b="1" lang="hi-IN" sz="2000" spc="-1" strike="noStrike">
                <a:solidFill>
                  <a:srgbClr val="000000"/>
                </a:solidFill>
                <a:latin typeface="Arial"/>
                <a:cs typeface="Al-KsorZulfiMath"/>
              </a:rPr>
              <a:t>ا ج؟ 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abic Transparent"/>
              </a:rPr>
              <a:t> =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abic Transparent"/>
              </a:rPr>
              <a:t>60ْ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l-KsorZulfiMath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000" spc="-1" strike="noStrike">
                <a:solidFill>
                  <a:srgbClr val="000000"/>
                </a:solidFill>
                <a:latin typeface="Arial"/>
                <a:cs typeface="Al-KsorZulfiMath"/>
              </a:rPr>
              <a:t>إ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مثلث ثلاثيني ستي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  <a:cs typeface="Al-KsorZulfiMath"/>
              </a:rPr>
              <a:t>ب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طول الضلع المواجه للزاوية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0ْ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hi-IN" sz="2000" spc="-1" strike="noStrike">
                <a:solidFill>
                  <a:srgbClr val="ff3300"/>
                </a:solidFill>
                <a:latin typeface="Arial"/>
              </a:rPr>
              <a:t>نصف الوتر× </a:t>
            </a:r>
            <a:r>
              <a:rPr b="1" lang="hi-IN" sz="2400" spc="-1" strike="noStrike">
                <a:solidFill>
                  <a:srgbClr val="ff3300"/>
                </a:solidFill>
                <a:latin typeface="Arial"/>
                <a:cs typeface="Al-KsorZulfiMath"/>
              </a:rPr>
              <a:t>و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وهو أيضاً الارتفا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  <a:cs typeface="Al-KsorZulfiMath"/>
              </a:rPr>
              <a:t>إ ‘ اد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× </a:t>
            </a:r>
            <a:r>
              <a:rPr b="1" lang="hi-IN" sz="2400" spc="-1" strike="noStrike">
                <a:solidFill>
                  <a:srgbClr val="000000"/>
                </a:solidFill>
                <a:latin typeface="Arial"/>
                <a:cs typeface="Al-KsorZulfiMath"/>
              </a:rPr>
              <a:t>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hi-IN" sz="2400" spc="-1" strike="noStrike">
                <a:solidFill>
                  <a:srgbClr val="000000"/>
                </a:solidFill>
                <a:latin typeface="Arial"/>
                <a:cs typeface="Al-KsorZulfiMath"/>
              </a:rPr>
              <a:t>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1" name="camera.wav"/>
      </p:stSnd>
    </p:sndAc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55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فكّر ثم اختار الإجابة الصحيح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07640" y="1268280"/>
            <a:ext cx="698508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*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Traditional Arabic"/>
              </a:rPr>
              <a:t>مثلث متطابق الضلعين قائم الزاوية إذا كان طول ضلع الزاوية القائمة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Traditional Arabic"/>
              </a:rPr>
              <a:t>8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KsorZulfiMath"/>
              </a:rPr>
              <a:t>وذ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 فإن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Traditional Arabic"/>
              </a:rPr>
              <a:t>طول الوتر هو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l-KsorZulfiMath"/>
              </a:rPr>
              <a:t>  ا~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8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KsorZulfiMath"/>
              </a:rPr>
              <a:t>ب~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16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KsorZulfiMath"/>
              </a:rPr>
              <a:t>ج~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8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KsorZulfiMath"/>
              </a:rPr>
              <a:t>وذ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KsorZulfiMath"/>
              </a:rPr>
              <a:t>د~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16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KsorZulfiMath"/>
              </a:rPr>
              <a:t>و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اجابة الصحيحة هي:  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Traditional Arabic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*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Traditional Arabic"/>
              </a:rPr>
              <a:t>إذا كان المثلث ا ب ج مثلث ثلاثيني ستيني وكان طول الضلع المواجه للزاوية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Traditional Arabic"/>
              </a:rPr>
              <a:t>30ْ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Traditional Arabic"/>
              </a:rPr>
              <a:t> يساوي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Traditional Arabic"/>
              </a:rPr>
              <a:t>5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Traditional Arabic"/>
              </a:rPr>
              <a:t> سم فإن طول الوتر يساو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l-KsorZulfiMath"/>
              </a:rPr>
              <a:t>  ا~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Traditional Arabic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Traditional Arabic"/>
              </a:rPr>
              <a:t>5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Traditional Arabic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KsorZulfiMath"/>
              </a:rPr>
              <a:t>و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Traditional Arabic"/>
              </a:rPr>
              <a:t>3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Traditional Arabic"/>
              </a:rPr>
              <a:t>  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KsorZulfiMath"/>
              </a:rPr>
              <a:t>ب~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Traditional Arabic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Traditional Arabic"/>
              </a:rPr>
              <a:t>5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Traditional Arabic"/>
              </a:rPr>
              <a:t>      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KsorZulfiMath"/>
              </a:rPr>
              <a:t>ج~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Traditional Arabic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Traditional Arabic"/>
              </a:rPr>
              <a:t>10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Traditional Arabic"/>
              </a:rPr>
              <a:t>           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KsorZulfiMath"/>
              </a:rPr>
              <a:t>د~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Traditional Arabic"/>
              </a:rPr>
              <a:t> 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Traditional Arabic"/>
              </a:rPr>
              <a:t>10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Traditional Arabic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KsorZulfiMath"/>
              </a:rPr>
              <a:t>و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Traditional Arabic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اجابة الصحيحة هي: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Traditional Arabic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1969920" cy="2449440"/>
          </a:xfrm>
          <a:prstGeom prst="rect">
            <a:avLst/>
          </a:prstGeom>
          <a:ln w="0">
            <a:noFill/>
          </a:ln>
        </p:spPr>
      </p:pic>
    </p:spTree>
  </p:cSld>
  <p:transition>
    <p:strips dir="ru"/>
    <p:sndAc>
      <p:stSnd>
        <p:snd r:embed="rId2" name="camera.wav"/>
      </p:stSnd>
    </p:sndAc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50" dur="1" fill="hold"/>
                                  <p:tgtEl>
                                    <p:spTgt spid="11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042920" y="2852640"/>
            <a:ext cx="6840720" cy="29527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971640" y="549360"/>
            <a:ext cx="712944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نتهى الدرس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strips dir="ru"/>
    <p:sndAc>
      <p:stSnd>
        <p:snd r:embed="rId4" name="camera.wav"/>
      </p:stSnd>
    </p:sndAc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8" dur="250" autoRev="1" fill="hold"/>
                                        <p:tgtEl>
                                          <p:spTgt spid="1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5T14:27:37Z</dcterms:created>
  <dc:creator>Arche</dc:creator>
  <dc:description/>
  <dc:language>en-US</dc:language>
  <cp:lastModifiedBy>Arche</cp:lastModifiedBy>
  <dcterms:modified xsi:type="dcterms:W3CDTF">2005-04-06T22:18:13Z</dcterms:modified>
  <cp:revision>6</cp:revision>
  <dc:subject/>
  <dc:title>الشريحة 1</dc:title>
</cp:coreProperties>
</file>