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AEB1-6DE9-44B7-9929-3277D627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601-F0D8-4C86-8610-3564F5CE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F81-533D-4EEA-ADAE-880BF0027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1F8E-F11C-49E3-B023-B00AD2C44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CC7E-6B86-4C82-A622-ADE866CC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C77B-E15A-4115-A111-DA724F99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6210-65F3-4FD6-AE8B-AE32AB75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693B-AA3D-4538-8DA9-BA5374ED8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2AA7-2872-4D1D-BB0D-069C0D99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3A57-D1B6-4398-BA3D-82762FC5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ED12D-9998-4135-9F52-4CD86DB3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218-C1DA-4F3F-82BA-26EEF6A0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F9B7-B97E-43F2-AB05-6D7E82A3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8B3DB-87DA-4956-B2A9-E603995D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33B6-987D-49E4-B5C8-57C62E26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46F2E-F8B5-4D7A-AA3E-6D78107EF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6895-7E0B-44EA-8683-D7C03836E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7BFD-8FC4-4D5D-A9BA-9A2760C9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4294-3150-4BCD-9F53-E009F65D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E4D-9266-4662-9E24-447B91C3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FEEA-7169-488C-85DE-5CD1F8B1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0871-7D84-428C-B4C0-61DCEBFE7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57E5-7508-48AB-B03C-C06E7026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9310-465B-4224-866E-ED4C80E8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AA61-D8E3-4F33-A45C-4B03AA80568A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7a8e9c"/>
                </a:gs>
                <a:gs pos="100000">
                  <a:srgbClr val="3e4a5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6c9087"/>
                </a:gs>
                <a:gs pos="50000">
                  <a:srgbClr val="81aba0"/>
                </a:gs>
                <a:gs pos="100000">
                  <a:srgbClr val="6c908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e3b38"/>
                </a:gs>
                <a:gs pos="50000">
                  <a:srgbClr val="cd817b"/>
                </a:gs>
                <a:gs pos="100000">
                  <a:srgbClr val="5e3b3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8e69"/>
                </a:gs>
                <a:gs pos="50000">
                  <a:srgbClr val="bebc76"/>
                </a:gs>
                <a:gs pos="100000">
                  <a:srgbClr val="668e6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7a8e9c"/>
                </a:gs>
                <a:gs pos="50000">
                  <a:srgbClr val="668e69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e4a52"/>
                </a:gs>
                <a:gs pos="100000">
                  <a:srgbClr val="7a8e9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BE83-E4FE-4E73-B22E-A44BCFEE0D2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84147"/>
            </a:gs>
            <a:gs pos="50000">
              <a:srgbClr val="7a8e9c"/>
            </a:gs>
            <a:gs pos="100000">
              <a:srgbClr val="38414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6697800" cy="12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fdf4df"/>
                </a:solidFill>
                <a:latin typeface="바탕"/>
                <a:cs typeface="ACS  Zomorrod"/>
              </a:rPr>
              <a:t>الدائرة والمستقيم</a:t>
            </a:r>
            <a:r>
              <a:rPr b="0" lang="en-US" sz="8800" spc="-1" strike="noStrike">
                <a:solidFill>
                  <a:srgbClr val="fdf4df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419280" y="1844640"/>
            <a:ext cx="3911400" cy="6955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2f1311"/>
            </a:solidFill>
            <a:miter/>
          </a:ln>
          <a:effectLst>
            <a:outerShdw dist="153753" dir="2700000" blurRad="0" rotWithShape="0">
              <a:srgbClr val="3e4a52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dvertisingMedium"/>
              </a:rPr>
              <a:t>) </a:t>
            </a:r>
            <a:r>
              <a:rPr b="0" lang="hi-IN" sz="3200" spc="-1" strike="noStrike">
                <a:solidFill>
                  <a:srgbClr val="2f1311"/>
                </a:solidFill>
                <a:latin typeface="Arial"/>
                <a:cs typeface="AdvertisingMedium"/>
              </a:rPr>
              <a:t>مستقيم خارج الدائرة</a:t>
            </a:r>
            <a:r>
              <a:rPr b="0" lang="en-US" sz="3200" spc="-1" strike="noStrike">
                <a:solidFill>
                  <a:srgbClr val="d8db51"/>
                </a:solidFill>
                <a:latin typeface="Arial"/>
                <a:ea typeface="AdvertisingMedium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8360" y="2924280"/>
            <a:ext cx="3600360" cy="3529080"/>
          </a:xfrm>
          <a:prstGeom prst="ellipse">
            <a:avLst/>
          </a:prstGeom>
          <a:gradFill rotWithShape="0">
            <a:gsLst>
              <a:gs pos="0">
                <a:srgbClr val="656531"/>
              </a:gs>
              <a:gs pos="100000">
                <a:srgbClr val="dcdc6c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908000" y="4508640"/>
            <a:ext cx="576360" cy="879120"/>
            <a:chOff x="1908000" y="4508640"/>
            <a:chExt cx="576360" cy="879120"/>
          </a:xfrm>
        </p:grpSpPr>
        <p:sp>
          <p:nvSpPr>
            <p:cNvPr id="196" name=""/>
            <p:cNvSpPr/>
            <p:nvPr/>
          </p:nvSpPr>
          <p:spPr>
            <a:xfrm flipH="1">
              <a:off x="2125080" y="4579920"/>
              <a:ext cx="358920" cy="216000"/>
            </a:xfrm>
            <a:prstGeom prst="line">
              <a:avLst/>
            </a:prstGeom>
            <a:ln w="572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908000" y="4508640"/>
              <a:ext cx="576360" cy="879120"/>
              <a:chOff x="1908000" y="4508640"/>
              <a:chExt cx="576360" cy="879120"/>
            </a:xfrm>
          </p:grpSpPr>
          <p:sp>
            <p:nvSpPr>
              <p:cNvPr id="198" name=""/>
              <p:cNvSpPr/>
              <p:nvPr/>
            </p:nvSpPr>
            <p:spPr>
              <a:xfrm>
                <a:off x="2197080" y="4508640"/>
                <a:ext cx="215640" cy="360360"/>
              </a:xfrm>
              <a:prstGeom prst="line">
                <a:avLst/>
              </a:prstGeom>
              <a:ln w="5724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908000" y="4562640"/>
                <a:ext cx="576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4800" spc="-1" strike="noStrike">
                    <a:solidFill>
                      <a:srgbClr val="2f1311"/>
                    </a:solidFill>
                    <a:latin typeface="Arial"/>
                  </a:rPr>
                  <a:t>م</a:t>
                </a:r>
                <a:endParaRPr b="0" lang="en-US" sz="4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"/>
          <p:cNvSpPr/>
          <p:nvPr/>
        </p:nvSpPr>
        <p:spPr>
          <a:xfrm flipH="1" flipV="1">
            <a:off x="4787640" y="2781360"/>
            <a:ext cx="360360" cy="3527280"/>
          </a:xfrm>
          <a:prstGeom prst="line">
            <a:avLst/>
          </a:prstGeom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68360" y="2924280"/>
            <a:ext cx="3600360" cy="3529080"/>
          </a:xfrm>
          <a:prstGeom prst="ellipse">
            <a:avLst/>
          </a:prstGeom>
          <a:gradFill rotWithShape="0">
            <a:gsLst>
              <a:gs pos="0">
                <a:srgbClr val="656531"/>
              </a:gs>
              <a:gs pos="100000">
                <a:srgbClr val="dcdc6c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19640" y="1844640"/>
            <a:ext cx="3911400" cy="695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2f1311"/>
            </a:solidFill>
            <a:miter/>
          </a:ln>
          <a:effectLst>
            <a:outerShdw dist="153753" dir="2700000" blurRad="0" rotWithShape="0">
              <a:srgbClr val="3e4a5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  <a:ea typeface="AdvertisingMedium"/>
              </a:rPr>
              <a:t>) مستقيم مماس للدائرة</a:t>
            </a:r>
            <a:r>
              <a:rPr b="0" lang="ar-SA" sz="3200" spc="-1" strike="noStrike">
                <a:solidFill>
                  <a:srgbClr val="d8db51"/>
                </a:solidFill>
                <a:latin typeface="Arial"/>
                <a:ea typeface="AdvertisingMedium"/>
              </a:rPr>
              <a:t>.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1908000" y="4508640"/>
            <a:ext cx="576360" cy="879120"/>
            <a:chOff x="1908000" y="4508640"/>
            <a:chExt cx="576360" cy="879120"/>
          </a:xfrm>
        </p:grpSpPr>
        <p:sp>
          <p:nvSpPr>
            <p:cNvPr id="204" name=""/>
            <p:cNvSpPr/>
            <p:nvPr/>
          </p:nvSpPr>
          <p:spPr>
            <a:xfrm flipH="1">
              <a:off x="2125080" y="4579920"/>
              <a:ext cx="358920" cy="216000"/>
            </a:xfrm>
            <a:prstGeom prst="line">
              <a:avLst/>
            </a:prstGeom>
            <a:ln w="572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1908000" y="4508640"/>
              <a:ext cx="576360" cy="879120"/>
              <a:chOff x="1908000" y="4508640"/>
              <a:chExt cx="576360" cy="879120"/>
            </a:xfrm>
          </p:grpSpPr>
          <p:sp>
            <p:nvSpPr>
              <p:cNvPr id="206" name=""/>
              <p:cNvSpPr/>
              <p:nvPr/>
            </p:nvSpPr>
            <p:spPr>
              <a:xfrm>
                <a:off x="2197080" y="4508640"/>
                <a:ext cx="215640" cy="360360"/>
              </a:xfrm>
              <a:prstGeom prst="line">
                <a:avLst/>
              </a:prstGeom>
              <a:ln w="5724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908000" y="4562640"/>
                <a:ext cx="576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4800" spc="-1" strike="noStrike">
                    <a:solidFill>
                      <a:srgbClr val="2f1311"/>
                    </a:solidFill>
                    <a:latin typeface="Arial"/>
                  </a:rPr>
                  <a:t>م</a:t>
                </a:r>
                <a:endParaRPr b="0" lang="en-US" sz="4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 flipH="1" flipV="1">
            <a:off x="3930120" y="2781360"/>
            <a:ext cx="360360" cy="352728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2268360" y="4462200"/>
            <a:ext cx="1798920" cy="21564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7a8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68360" y="2924280"/>
            <a:ext cx="3600360" cy="3529080"/>
          </a:xfrm>
          <a:prstGeom prst="ellipse">
            <a:avLst/>
          </a:prstGeom>
          <a:gradFill rotWithShape="0">
            <a:gsLst>
              <a:gs pos="0">
                <a:srgbClr val="656531"/>
              </a:gs>
              <a:gs pos="100000">
                <a:srgbClr val="dcdc6c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92600" y="1654200"/>
            <a:ext cx="4271760" cy="695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2f1311"/>
            </a:solidFill>
            <a:miter/>
          </a:ln>
          <a:effectLst>
            <a:outerShdw dist="153753" dir="2700000" blurRad="0" rotWithShape="0">
              <a:srgbClr val="3e4a5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dvertisingMedium"/>
              </a:rPr>
              <a:t>) مستقيم قاطع للدائرة</a:t>
            </a:r>
            <a:r>
              <a:rPr b="0" lang="en-US" sz="3200" spc="-1" strike="noStrike">
                <a:solidFill>
                  <a:srgbClr val="d8db51"/>
                </a:solidFill>
                <a:latin typeface="Arial"/>
                <a:ea typeface="AdvertisingMedium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908000" y="4508640"/>
            <a:ext cx="576360" cy="879120"/>
            <a:chOff x="1908000" y="4508640"/>
            <a:chExt cx="576360" cy="879120"/>
          </a:xfrm>
        </p:grpSpPr>
        <p:sp>
          <p:nvSpPr>
            <p:cNvPr id="213" name=""/>
            <p:cNvSpPr/>
            <p:nvPr/>
          </p:nvSpPr>
          <p:spPr>
            <a:xfrm flipH="1">
              <a:off x="2125080" y="4579920"/>
              <a:ext cx="358920" cy="216000"/>
            </a:xfrm>
            <a:prstGeom prst="line">
              <a:avLst/>
            </a:prstGeom>
            <a:ln w="57240">
              <a:solidFill>
                <a:srgbClr val="2f13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1908000" y="4508640"/>
              <a:ext cx="576360" cy="879120"/>
              <a:chOff x="1908000" y="4508640"/>
              <a:chExt cx="576360" cy="879120"/>
            </a:xfrm>
          </p:grpSpPr>
          <p:sp>
            <p:nvSpPr>
              <p:cNvPr id="215" name=""/>
              <p:cNvSpPr/>
              <p:nvPr/>
            </p:nvSpPr>
            <p:spPr>
              <a:xfrm>
                <a:off x="2197080" y="4508640"/>
                <a:ext cx="215640" cy="360360"/>
              </a:xfrm>
              <a:prstGeom prst="line">
                <a:avLst/>
              </a:prstGeom>
              <a:ln w="57240">
                <a:solidFill>
                  <a:srgbClr val="2f13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908000" y="4562640"/>
                <a:ext cx="5763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 rtl="1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4800" spc="-1" strike="noStrike">
                    <a:solidFill>
                      <a:srgbClr val="2f1311"/>
                    </a:solidFill>
                    <a:latin typeface="Arial"/>
                  </a:rPr>
                  <a:t>م</a:t>
                </a:r>
                <a:endParaRPr b="0" lang="en-US" sz="4800" spc="-1" strike="noStrike">
                  <a:solidFill>
                    <a:srgbClr val="2f1311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 flipH="1" flipV="1">
            <a:off x="3203280" y="2421000"/>
            <a:ext cx="431640" cy="4248000"/>
          </a:xfrm>
          <a:prstGeom prst="line">
            <a:avLst/>
          </a:prstGeom>
          <a:ln w="5724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4df"/>
            </a:gs>
            <a:gs pos="100000">
              <a:srgbClr val="7a8e9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11280" y="4581360"/>
            <a:ext cx="1981080" cy="1557360"/>
          </a:xfrm>
          <a:prstGeom prst="ellipse">
            <a:avLst/>
          </a:prstGeom>
          <a:gradFill rotWithShape="0">
            <a:gsLst>
              <a:gs pos="0">
                <a:srgbClr val="6a4e2c"/>
              </a:gs>
              <a:gs pos="100000">
                <a:srgbClr val="e8aa6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e4a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46200" y="2565360"/>
            <a:ext cx="1981080" cy="1557360"/>
          </a:xfrm>
          <a:prstGeom prst="ellipse">
            <a:avLst/>
          </a:prstGeom>
          <a:gradFill rotWithShape="0">
            <a:gsLst>
              <a:gs pos="0">
                <a:srgbClr val="6a4e2c"/>
              </a:gs>
              <a:gs pos="100000">
                <a:srgbClr val="e8aa6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e4a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9720" y="792000"/>
            <a:ext cx="1981080" cy="1557360"/>
          </a:xfrm>
          <a:prstGeom prst="ellipse">
            <a:avLst/>
          </a:prstGeom>
          <a:gradFill rotWithShape="0">
            <a:gsLst>
              <a:gs pos="0">
                <a:srgbClr val="6a4e2c"/>
              </a:gs>
              <a:gs pos="100000">
                <a:srgbClr val="e8aa6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3e4a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48000" y="5229360"/>
            <a:ext cx="4272120" cy="6951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2f1311"/>
            </a:solidFill>
            <a:miter/>
          </a:ln>
          <a:effectLst>
            <a:outerShdw dist="153753" dir="2700000" blurRad="0" rotWithShape="0">
              <a:srgbClr val="3e4a5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dvertisingMedium"/>
              </a:rPr>
              <a:t>) مستقيم قاطع للدائرة</a:t>
            </a:r>
            <a:r>
              <a:rPr b="0" lang="en-US" sz="3200" spc="-1" strike="noStrike">
                <a:solidFill>
                  <a:srgbClr val="d8db51"/>
                </a:solidFill>
                <a:latin typeface="Arial"/>
                <a:ea typeface="AdvertisingMedium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492360" y="3068640"/>
            <a:ext cx="3911760" cy="69516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2f1311"/>
            </a:solidFill>
            <a:miter/>
          </a:ln>
          <a:effectLst>
            <a:outerShdw dist="153753" dir="2700000" blurRad="0" rotWithShape="0">
              <a:srgbClr val="3e4a5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  <a:ea typeface="AdvertisingMedium"/>
              </a:rPr>
              <a:t>) مستقيم مماس للدائرة</a:t>
            </a:r>
            <a:r>
              <a:rPr b="0" lang="ar-SA" sz="3200" spc="-1" strike="noStrike">
                <a:solidFill>
                  <a:srgbClr val="d8db51"/>
                </a:solidFill>
                <a:latin typeface="Arial"/>
                <a:ea typeface="AdvertisingMedium"/>
              </a:rPr>
              <a:t>.</a:t>
            </a:r>
            <a:r>
              <a:rPr b="0" lang="ar-SA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492360" y="1581120"/>
            <a:ext cx="3911760" cy="69552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2f1311"/>
            </a:solidFill>
            <a:miter/>
          </a:ln>
          <a:effectLst>
            <a:outerShdw dist="153753" dir="2700000" blurRad="0" rotWithShape="0">
              <a:srgbClr val="3e4a5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  <a:ea typeface="AdvertisingMedium"/>
              </a:rPr>
              <a:t>) مستقيم خارج الدائرة</a:t>
            </a:r>
            <a:r>
              <a:rPr b="0" lang="en-US" sz="3200" spc="-1" strike="noStrike">
                <a:solidFill>
                  <a:srgbClr val="d8db51"/>
                </a:solidFill>
                <a:latin typeface="Arial"/>
                <a:ea typeface="AdvertisingMedium"/>
              </a:rPr>
              <a:t>.</a:t>
            </a: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0360" y="1344600"/>
            <a:ext cx="5763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× </a:t>
            </a:r>
            <a:r>
              <a:rPr b="1" lang="hi-IN" sz="3200" spc="-1" strike="noStrike" baseline="-25000">
                <a:solidFill>
                  <a:srgbClr val="2f1311"/>
                </a:solidFill>
                <a:latin typeface="Arial"/>
                <a:cs typeface="AdvertisingMedium"/>
              </a:rPr>
              <a:t>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73320" y="3139920"/>
            <a:ext cx="57600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× </a:t>
            </a:r>
            <a:r>
              <a:rPr b="1" lang="hi-IN" sz="3200" spc="-1" strike="noStrike" baseline="-25000">
                <a:solidFill>
                  <a:srgbClr val="2f1311"/>
                </a:solidFill>
                <a:latin typeface="Arial"/>
                <a:cs typeface="AdvertisingMedium"/>
              </a:rPr>
              <a:t>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31920" y="5200560"/>
            <a:ext cx="5763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1311"/>
                </a:solidFill>
                <a:latin typeface="Arial"/>
              </a:rPr>
              <a:t>× </a:t>
            </a:r>
            <a:r>
              <a:rPr b="1" lang="hi-IN" sz="3200" spc="-1" strike="noStrike" baseline="-25000">
                <a:solidFill>
                  <a:srgbClr val="2f1311"/>
                </a:solidFill>
                <a:latin typeface="Arial"/>
                <a:cs typeface="AdvertisingMedium"/>
              </a:rPr>
              <a:t>م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771280" y="1773360"/>
            <a:ext cx="505080" cy="0"/>
          </a:xfrm>
          <a:prstGeom prst="line">
            <a:avLst/>
          </a:prstGeom>
          <a:ln w="76320">
            <a:solidFill>
              <a:srgbClr val="f83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771280" y="3357720"/>
            <a:ext cx="505080" cy="0"/>
          </a:xfrm>
          <a:prstGeom prst="line">
            <a:avLst/>
          </a:prstGeom>
          <a:ln w="76320">
            <a:solidFill>
              <a:srgbClr val="f83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698920" y="5516640"/>
            <a:ext cx="504720" cy="0"/>
          </a:xfrm>
          <a:prstGeom prst="line">
            <a:avLst/>
          </a:prstGeom>
          <a:ln w="76320">
            <a:solidFill>
              <a:srgbClr val="f83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68600" y="260280"/>
            <a:ext cx="3911760" cy="91116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-1" strike="noStrike">
                <a:solidFill>
                  <a:srgbClr val="2f1311"/>
                </a:solidFill>
                <a:latin typeface="Arial"/>
                <a:cs typeface="AL-Hor"/>
              </a:rPr>
              <a:t>الدائرة والمستقيم </a:t>
            </a:r>
            <a:r>
              <a:rPr b="0" lang="en-US" sz="5400" spc="-1" strike="noStrike">
                <a:solidFill>
                  <a:srgbClr val="d8db51"/>
                </a:solidFill>
                <a:latin typeface="Arial"/>
                <a:ea typeface="AL-Hor"/>
              </a:rPr>
              <a:t>.</a:t>
            </a:r>
            <a:r>
              <a:rPr b="0" lang="en-US" sz="5400" spc="-1" strike="noStrike">
                <a:solidFill>
                  <a:srgbClr val="2f1311"/>
                </a:solidFill>
                <a:latin typeface="Arial"/>
                <a:ea typeface="AL-Hor"/>
              </a:rPr>
              <a:t> </a:t>
            </a:r>
            <a:endParaRPr b="0" lang="en-US" sz="5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23640" y="620640"/>
            <a:ext cx="360360" cy="158436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453600" y="2435400"/>
            <a:ext cx="360360" cy="158400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1050840" y="4365720"/>
            <a:ext cx="425520" cy="187308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623880" y="3103560"/>
            <a:ext cx="1008000" cy="216000"/>
          </a:xfrm>
          <a:prstGeom prst="line">
            <a:avLst/>
          </a:prstGeom>
          <a:ln w="57240">
            <a:solidFill>
              <a:srgbClr val="668e6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4e49"/>
            </a:gs>
            <a:gs pos="100000">
              <a:srgbClr val="81aba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708360" y="1052280"/>
            <a:ext cx="1760400" cy="1143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bebc7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e8aa6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2f1311"/>
                </a:solidFill>
                <a:latin typeface="Arial"/>
                <a:cs typeface="AdvertisingLight"/>
              </a:rPr>
              <a:t>الواجب</a:t>
            </a:r>
            <a:r>
              <a:rPr b="0" lang="en-US" sz="4000" spc="-1" strike="noStrike">
                <a:solidFill>
                  <a:srgbClr val="fdf4d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df4d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619280" y="3068640"/>
            <a:ext cx="6162480" cy="194472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e8aa6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1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2f1311"/>
                </a:solidFill>
                <a:latin typeface="Arial"/>
                <a:cs typeface="AdvertisingLight"/>
              </a:rPr>
              <a:t>س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  <a:ea typeface="AdvertisingLight"/>
              </a:rPr>
              <a:t>1</a:t>
            </a:r>
            <a:r>
              <a:rPr b="0" lang="en-US" sz="3600" spc="-1" strike="noStrike">
                <a:solidFill>
                  <a:srgbClr val="2f1311"/>
                </a:solidFill>
                <a:latin typeface="Arial"/>
                <a:ea typeface="AdvertisingLight"/>
              </a:rPr>
              <a:t> صفحة</a:t>
            </a:r>
            <a:r>
              <a:rPr b="0" lang="en-US" sz="6700" spc="-1" strike="noStrike">
                <a:solidFill>
                  <a:srgbClr val="2f1311"/>
                </a:solidFill>
                <a:latin typeface="Arial"/>
                <a:ea typeface="AdvertisingLight"/>
              </a:rPr>
              <a:t> 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dvertisingLight"/>
              </a:rPr>
              <a:t>78</a:t>
            </a:r>
            <a:r>
              <a:rPr b="0" lang="en-US" sz="6700" spc="-1" strike="noStrike">
                <a:solidFill>
                  <a:srgbClr val="2f1311"/>
                </a:solidFill>
                <a:latin typeface="Arial"/>
                <a:ea typeface="AdvertisingLight"/>
              </a:rPr>
              <a:t> </a:t>
            </a:r>
            <a:endParaRPr b="0" lang="en-US" sz="67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2f1311"/>
                </a:solidFill>
                <a:latin typeface="Arial"/>
                <a:cs typeface="AdvertisingLight"/>
              </a:rPr>
              <a:t>بدفتر الواجب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27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18,-68,-6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3,-127,-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18,-68,-6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1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7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28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5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6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4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43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44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13:25:33Z</dcterms:created>
  <dc:creator>a</dc:creator>
  <dc:description/>
  <dc:language>en-US</dc:language>
  <cp:lastModifiedBy>a</cp:lastModifiedBy>
  <dcterms:modified xsi:type="dcterms:W3CDTF">2003-03-31T12:22:33Z</dcterms:modified>
  <cp:revision>15</cp:revision>
  <dc:subject/>
  <dc:title>الدائرة والمستقيم </dc:title>
</cp:coreProperties>
</file>