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D42-D608-42A7-BA38-75E73B46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99A-E0AA-4FA2-953D-1160F844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E6D-79E4-4DB6-9A88-D37E7D45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FD5-7B85-49A6-94F9-5A3F044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4B1-C0BC-43B8-882D-192945E8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66C-A6D5-484E-90BA-CA4D22B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D48-B492-4D86-98A4-815D225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7C4-5CB8-4006-AD1C-60BAAFE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8B5-69DE-458D-A8C3-A4C22812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A76-A277-4E01-B6D0-FA39C3F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FF4-4E34-4510-B36C-2748390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82D-2411-4EA3-A8A1-A837EF1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21C7-A3FF-4265-934C-0FB00726F3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08360" y="476280"/>
            <a:ext cx="482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L-Mateen"/>
              </a:rPr>
              <a:t>إيجاد مساحة المنطقة المحصورة بين منحنيين :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L-Mateen"/>
              <a:ea typeface="AL-Matee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595840" y="946080"/>
            <a:ext cx="3060720" cy="1879560"/>
            <a:chOff x="5595840" y="946080"/>
            <a:chExt cx="3060720" cy="1879560"/>
          </a:xfrm>
        </p:grpSpPr>
        <p:sp>
          <p:nvSpPr>
            <p:cNvPr id="43" name=""/>
            <p:cNvSpPr/>
            <p:nvPr/>
          </p:nvSpPr>
          <p:spPr>
            <a:xfrm flipV="1">
              <a:off x="5940360" y="105228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51640" y="249228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7640" y="1432080"/>
              <a:ext cx="1944720" cy="468000"/>
            </a:xfrm>
            <a:custGeom>
              <a:avLst/>
              <a:gdLst/>
              <a:ahLst/>
              <a:rect l="l" t="t" r="r" b="b"/>
              <a:pathLst>
                <a:path w="1225" h="295">
                  <a:moveTo>
                    <a:pt x="0" y="295"/>
                  </a:moveTo>
                  <a:cubicBezTo>
                    <a:pt x="125" y="170"/>
                    <a:pt x="250" y="46"/>
                    <a:pt x="454" y="23"/>
                  </a:cubicBezTo>
                  <a:cubicBezTo>
                    <a:pt x="658" y="0"/>
                    <a:pt x="941" y="79"/>
                    <a:pt x="1225" y="159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1103000">
              <a:off x="6227280" y="1467720"/>
              <a:ext cx="1944720" cy="468360"/>
            </a:xfrm>
            <a:custGeom>
              <a:avLst/>
              <a:gdLst/>
              <a:ahLst/>
              <a:rect l="l" t="t" r="r" b="b"/>
              <a:pathLst>
                <a:path w="1225" h="295">
                  <a:moveTo>
                    <a:pt x="0" y="295"/>
                  </a:moveTo>
                  <a:cubicBezTo>
                    <a:pt x="125" y="170"/>
                    <a:pt x="250" y="46"/>
                    <a:pt x="454" y="23"/>
                  </a:cubicBezTo>
                  <a:cubicBezTo>
                    <a:pt x="658" y="0"/>
                    <a:pt x="941" y="79"/>
                    <a:pt x="1225" y="159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61280" y="16844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83440" y="16844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04000" y="11113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04000" y="18050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40520" y="2457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0560" y="2403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42160" y="13557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38720" y="1359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96200" y="2152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95840" y="946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516720" y="278136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شكل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112536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2781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شكل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03280" y="765000"/>
            <a:ext cx="3600360" cy="2059200"/>
            <a:chOff x="1403280" y="765000"/>
            <a:chExt cx="3600360" cy="2059200"/>
          </a:xfrm>
        </p:grpSpPr>
        <p:sp>
          <p:nvSpPr>
            <p:cNvPr id="61" name=""/>
            <p:cNvSpPr/>
            <p:nvPr/>
          </p:nvSpPr>
          <p:spPr>
            <a:xfrm>
              <a:off x="1403280" y="24922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340000" y="105228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00" y="1401840"/>
              <a:ext cx="1800360" cy="442800"/>
            </a:xfrm>
            <a:custGeom>
              <a:avLst/>
              <a:gdLst/>
              <a:ahLst/>
              <a:rect l="l" t="t" r="r" b="b"/>
              <a:pathLst>
                <a:path w="1134" h="279">
                  <a:moveTo>
                    <a:pt x="0" y="279"/>
                  </a:moveTo>
                  <a:cubicBezTo>
                    <a:pt x="60" y="146"/>
                    <a:pt x="121" y="14"/>
                    <a:pt x="272" y="7"/>
                  </a:cubicBezTo>
                  <a:cubicBezTo>
                    <a:pt x="423" y="0"/>
                    <a:pt x="763" y="234"/>
                    <a:pt x="907" y="234"/>
                  </a:cubicBezTo>
                  <a:cubicBezTo>
                    <a:pt x="1051" y="234"/>
                    <a:pt x="1092" y="120"/>
                    <a:pt x="1134" y="7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5280" y="1268280"/>
              <a:ext cx="1944720" cy="660600"/>
            </a:xfrm>
            <a:custGeom>
              <a:avLst/>
              <a:gdLst/>
              <a:ahLst/>
              <a:rect l="l" t="t" r="r" b="b"/>
              <a:pathLst>
                <a:path w="1225" h="416">
                  <a:moveTo>
                    <a:pt x="0" y="0"/>
                  </a:moveTo>
                  <a:cubicBezTo>
                    <a:pt x="83" y="200"/>
                    <a:pt x="167" y="400"/>
                    <a:pt x="318" y="408"/>
                  </a:cubicBezTo>
                  <a:cubicBezTo>
                    <a:pt x="469" y="416"/>
                    <a:pt x="757" y="69"/>
                    <a:pt x="908" y="46"/>
                  </a:cubicBezTo>
                  <a:cubicBezTo>
                    <a:pt x="1059" y="23"/>
                    <a:pt x="1142" y="147"/>
                    <a:pt x="1225" y="272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14560" y="1700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78200" y="16462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73440" y="1484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1320" y="11271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62360" y="1658880"/>
              <a:ext cx="64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9840" y="17175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43280" y="998640"/>
              <a:ext cx="64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6680" y="1271520"/>
              <a:ext cx="64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م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24200" y="1406520"/>
              <a:ext cx="64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م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36560" y="2455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1640" y="2351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33680" y="2367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ج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1640" y="2401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43280" y="21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0920" y="76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16000" y="3284640"/>
            <a:ext cx="7416720" cy="1521720"/>
            <a:chOff x="1116000" y="3284640"/>
            <a:chExt cx="7416720" cy="1521720"/>
          </a:xfrm>
        </p:grpSpPr>
        <p:sp>
          <p:nvSpPr>
            <p:cNvPr id="81" name=""/>
            <p:cNvSpPr/>
            <p:nvPr/>
          </p:nvSpPr>
          <p:spPr>
            <a:xfrm>
              <a:off x="1116000" y="3357720"/>
              <a:ext cx="741672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(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1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) الحالة الأولى ( انظر شكل 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1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 )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ليكن لدينا منحنيين ص</a:t>
              </a:r>
              <a:r>
                <a:rPr b="0" lang="ar-S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، ص</a:t>
              </a:r>
              <a:r>
                <a:rPr b="0" lang="ar-S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متصلين لكل س</a:t>
              </a:r>
              <a:r>
                <a:rPr b="0" lang="ar-SA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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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، ب] و متقاطعين في نقطتين فقط فإن مساح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المنطقة المحصورة بينهما هي : م =     ( ص</a:t>
              </a:r>
              <a:r>
                <a:rPr b="0" lang="ar-S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-ص</a:t>
              </a:r>
              <a:r>
                <a:rPr b="0" lang="ar-S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ar-SA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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116000" y="3284640"/>
              <a:ext cx="74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92720" y="3933720"/>
              <a:ext cx="582120" cy="647640"/>
              <a:chOff x="5292720" y="3933720"/>
              <a:chExt cx="582120" cy="6476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5660640" y="4087800"/>
              <a:ext cx="195120" cy="3430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60640" y="4087800"/>
                        <a:ext cx="195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5527440" y="4352760"/>
                <a:ext cx="34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36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Zawawi"/>
                    <a:ea typeface="Zawawi"/>
                  </a:rPr>
                  <a:t>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92720" y="3933720"/>
                <a:ext cx="344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Times New Roman"/>
                  </a:rPr>
                  <a:t>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1042920" y="4073400"/>
            <a:ext cx="7561440" cy="1919520"/>
            <a:chOff x="1042920" y="4073400"/>
            <a:chExt cx="7561440" cy="1919520"/>
          </a:xfrm>
        </p:grpSpPr>
        <p:sp>
          <p:nvSpPr>
            <p:cNvPr id="89" name=""/>
            <p:cNvSpPr/>
            <p:nvPr/>
          </p:nvSpPr>
          <p:spPr>
            <a:xfrm>
              <a:off x="1042920" y="4073400"/>
              <a:ext cx="7561440" cy="19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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لحالة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لثانية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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نظر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شكل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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إذا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تقاطع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لمنحنيان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ص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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،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ص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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في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ثلاثة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نقاط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en-US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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،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ب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،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جـ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</a:t>
              </a:r>
              <a:r>
                <a:rPr b="0" lang="en-US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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،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ب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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فإنه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يكون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هناك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ساحتان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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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ص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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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ص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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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س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،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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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ص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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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ص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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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س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وتكون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لمساحة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لإجمالية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خلال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الفترة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</a:t>
              </a:r>
              <a:r>
                <a:rPr b="0" lang="en-US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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،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ب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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هي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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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</a:t>
              </a:r>
              <a:r>
                <a:rPr b="0" lang="ar-SA" sz="1600" spc="-1" strike="noStrike">
                  <a:solidFill>
                    <a:srgbClr val="000000"/>
                  </a:solidFill>
                  <a:latin typeface="Zawawi"/>
                  <a:cs typeface="Zawawi"/>
                </a:rPr>
                <a:t>م</a:t>
              </a:r>
              <a:r>
                <a:rPr b="0" lang="ar-SA" sz="1600" spc="-1" strike="noStrike" baseline="-25000">
                  <a:solidFill>
                    <a:srgbClr val="000000"/>
                  </a:solidFill>
                  <a:latin typeface="Zawawi"/>
                  <a:ea typeface="Zawawi"/>
                </a:rPr>
                <a:t>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7667640" y="5059440"/>
              <a:ext cx="582120" cy="647640"/>
              <a:chOff x="7667640" y="5059440"/>
              <a:chExt cx="582120" cy="64764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8035560" y="5213520"/>
              <a:ext cx="195120" cy="343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8035560" y="5213520"/>
                        <a:ext cx="195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"/>
              <p:cNvSpPr/>
              <p:nvPr/>
            </p:nvSpPr>
            <p:spPr>
              <a:xfrm>
                <a:off x="7902360" y="5478480"/>
                <a:ext cx="34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36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Zawawi"/>
                    <a:ea typeface="Zawawi"/>
                  </a:rPr>
                  <a:t>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7640" y="5059440"/>
                <a:ext cx="344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Times New Roman"/>
                  </a:rPr>
                  <a:t>ج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995640" y="5013360"/>
              <a:ext cx="582840" cy="588960"/>
              <a:chOff x="3995640" y="5013360"/>
              <a:chExt cx="582840" cy="588960"/>
            </a:xfrm>
          </p:grpSpPr>
          <p:graphicFrame>
            <p:nvGraphicFramePr>
              <p:cNvPr id="96" name=""/>
              <p:cNvGraphicFramePr/>
              <p:nvPr/>
            </p:nvGraphicFramePr>
            <p:xfrm>
              <a:off x="4363920" y="5167440"/>
              <a:ext cx="195480" cy="3427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363920" y="5167440"/>
                        <a:ext cx="19548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8" name=""/>
              <p:cNvSpPr/>
              <p:nvPr/>
            </p:nvSpPr>
            <p:spPr>
              <a:xfrm>
                <a:off x="4230720" y="5373720"/>
                <a:ext cx="347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36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Zawawi"/>
                    <a:cs typeface="Zawawi"/>
                  </a:rPr>
                  <a:t>ج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95640" y="5013360"/>
                <a:ext cx="34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Times New Roman"/>
                  </a:rPr>
                  <a:t>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116000" y="549360"/>
            <a:ext cx="7416720" cy="1836360"/>
            <a:chOff x="1116000" y="549360"/>
            <a:chExt cx="7416720" cy="1836360"/>
          </a:xfrm>
        </p:grpSpPr>
        <p:sp>
          <p:nvSpPr>
            <p:cNvPr id="101" name=""/>
            <p:cNvSpPr/>
            <p:nvPr/>
          </p:nvSpPr>
          <p:spPr>
            <a:xfrm>
              <a:off x="1116000" y="549360"/>
              <a:ext cx="74167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L-Mateen"/>
                </a:rPr>
                <a:t>وبشكل عام لإيجاد مساحة المنطقة المحصورة بين منحنيين نستخدم القانون التالي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م = |     ( 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– ص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) </a:t>
              </a:r>
              <a:r>
                <a:rPr b="0" lang="en-US" sz="18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</a:t>
              </a:r>
              <a:r>
                <a:rPr b="0" lang="hi-IN" sz="1800" spc="-1" strike="noStrike">
                  <a:solidFill>
                    <a:srgbClr val="000000"/>
                  </a:solidFill>
                  <a:latin typeface="Arial"/>
                </a:rPr>
                <a:t>س 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L-Mateen"/>
                </a:rPr>
                <a:t>	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L-Mateen"/>
                </a:rPr>
                <a:t>مع مراعاة الحالت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984920" y="942840"/>
              <a:ext cx="599400" cy="648000"/>
              <a:chOff x="4984920" y="942840"/>
              <a:chExt cx="599400" cy="648000"/>
            </a:xfrm>
          </p:grpSpPr>
          <p:graphicFrame>
            <p:nvGraphicFramePr>
              <p:cNvPr id="103" name=""/>
              <p:cNvGraphicFramePr/>
              <p:nvPr/>
            </p:nvGraphicFramePr>
            <p:xfrm>
              <a:off x="5352840" y="1096920"/>
              <a:ext cx="195120" cy="3430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352840" y="1096920"/>
                        <a:ext cx="195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5" name=""/>
              <p:cNvSpPr/>
              <p:nvPr/>
            </p:nvSpPr>
            <p:spPr>
              <a:xfrm>
                <a:off x="5236920" y="1362240"/>
                <a:ext cx="34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36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Zawawi"/>
                    <a:ea typeface="Zawawi"/>
                  </a:rPr>
                  <a:t>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4920" y="942840"/>
                <a:ext cx="344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Times New Roman"/>
                  </a:rPr>
                  <a:t>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1187280" y="2349360"/>
            <a:ext cx="734544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مثا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 :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أوجد مساحة المنطقة المحصورة بين المنحنى ص=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 المستقيم ص= س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وجد نقاط التقاطع :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= س </a:t>
            </a:r>
            <a:r>
              <a:rPr b="0" lang="ar-SA" sz="2000" spc="-1" strike="noStrike">
                <a:solidFill>
                  <a:srgbClr val="000000"/>
                </a:solidFill>
                <a:latin typeface="Zawawi"/>
                <a:ea typeface="Zawawi"/>
              </a:rPr>
              <a:t>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 س =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س (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Zawawi"/>
                <a:ea typeface="Zawawi"/>
              </a:rPr>
              <a:t>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إما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س=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أو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Zawawi"/>
                <a:ea typeface="Zawawi"/>
              </a:rPr>
              <a:t>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Zawawi"/>
                <a:ea typeface="Zawawi"/>
              </a:rPr>
              <a:t>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س=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</a:t>
            </a:r>
            <a:r>
              <a:rPr b="0" lang="ar-S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(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س ) </a:t>
            </a:r>
            <a:r>
              <a:rPr b="0" lang="ar-SA" sz="2000" spc="-1" strike="noStrike">
                <a:solidFill>
                  <a:srgbClr val="000000"/>
                </a:solidFill>
                <a:latin typeface="Zawawi"/>
                <a:ea typeface="Zawawi"/>
              </a:rPr>
              <a:t>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= [    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 </a:t>
            </a:r>
            <a:r>
              <a:rPr b="0" lang="ar-SA" sz="2000" spc="-1" strike="noStrike" baseline="-3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ar-SA" sz="2000" spc="-1" strike="noStrike" baseline="-34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 baseline="56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ar-SA" sz="2000" spc="-1" strike="noStrike" baseline="5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[       -      ]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</a:t>
            </a:r>
            <a:r>
              <a:rPr b="0" lang="ar-S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( س</a:t>
            </a:r>
            <a:r>
              <a:rPr b="0" lang="ar-SA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س )</a:t>
            </a:r>
            <a:r>
              <a:rPr b="0" lang="ar-SA" sz="2000" spc="-1" strike="noStrike">
                <a:solidFill>
                  <a:srgbClr val="000000"/>
                </a:solidFill>
                <a:latin typeface="Zawawi"/>
                <a:ea typeface="Zawawi"/>
              </a:rPr>
              <a:t>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=</a:t>
            </a:r>
            <a:r>
              <a:rPr b="0" lang="ar-SA" sz="2000" spc="-1" strike="noStrike" baseline="5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[     س</a:t>
            </a:r>
            <a:r>
              <a:rPr b="0" lang="ar-SA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    س</a:t>
            </a:r>
            <a:r>
              <a:rPr b="0" lang="ar-S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ar-SA" sz="1800" spc="-1" strike="noStrike" baseline="-42000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1800" spc="-1" strike="noStrike" baseline="52000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 [      -      ] -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=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احة المطلوبة م = |م</a:t>
            </a:r>
            <a:r>
              <a:rPr b="0" lang="ar-S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| + |م</a:t>
            </a:r>
            <a:r>
              <a:rPr b="0" lang="ar-S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| =        +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518240" y="4094280"/>
            <a:ext cx="600120" cy="647280"/>
            <a:chOff x="7518240" y="4094280"/>
            <a:chExt cx="600120" cy="647280"/>
          </a:xfrm>
        </p:grpSpPr>
        <p:graphicFrame>
          <p:nvGraphicFramePr>
            <p:cNvPr id="109" name=""/>
            <p:cNvGraphicFramePr/>
            <p:nvPr/>
          </p:nvGraphicFramePr>
          <p:xfrm>
            <a:off x="7886520" y="4248000"/>
            <a:ext cx="195480" cy="34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86520" y="4248000"/>
                      <a:ext cx="1954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7770600" y="4513320"/>
              <a:ext cx="347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18240" y="4094280"/>
              <a:ext cx="344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97640" y="4222800"/>
            <a:ext cx="326880" cy="291960"/>
            <a:chOff x="5597640" y="4222800"/>
            <a:chExt cx="326880" cy="291960"/>
          </a:xfrm>
        </p:grpSpPr>
        <p:sp>
          <p:nvSpPr>
            <p:cNvPr id="114" name=""/>
            <p:cNvSpPr/>
            <p:nvPr/>
          </p:nvSpPr>
          <p:spPr>
            <a:xfrm flipH="1">
              <a:off x="5652720" y="440532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97640" y="42228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14920" y="44006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821120" y="4221000"/>
            <a:ext cx="326880" cy="291960"/>
            <a:chOff x="4821120" y="4221000"/>
            <a:chExt cx="326880" cy="291960"/>
          </a:xfrm>
        </p:grpSpPr>
        <p:sp>
          <p:nvSpPr>
            <p:cNvPr id="118" name=""/>
            <p:cNvSpPr/>
            <p:nvPr/>
          </p:nvSpPr>
          <p:spPr>
            <a:xfrm flipH="1">
              <a:off x="4876200" y="440352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21120" y="42210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38400" y="43988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022560" y="4238640"/>
            <a:ext cx="326880" cy="291960"/>
            <a:chOff x="3022560" y="4238640"/>
            <a:chExt cx="326880" cy="291960"/>
          </a:xfrm>
        </p:grpSpPr>
        <p:sp>
          <p:nvSpPr>
            <p:cNvPr id="122" name=""/>
            <p:cNvSpPr/>
            <p:nvPr/>
          </p:nvSpPr>
          <p:spPr>
            <a:xfrm flipH="1">
              <a:off x="3077640" y="44211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22560" y="42386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9840" y="441648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4238640"/>
            <a:ext cx="326880" cy="291960"/>
            <a:chOff x="2556000" y="4238640"/>
            <a:chExt cx="326880" cy="291960"/>
          </a:xfrm>
        </p:grpSpPr>
        <p:sp>
          <p:nvSpPr>
            <p:cNvPr id="126" name=""/>
            <p:cNvSpPr/>
            <p:nvPr/>
          </p:nvSpPr>
          <p:spPr>
            <a:xfrm flipH="1">
              <a:off x="2611080" y="44211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6000" y="42386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3280" y="441648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868400" y="4238640"/>
            <a:ext cx="326880" cy="291960"/>
            <a:chOff x="1868400" y="4238640"/>
            <a:chExt cx="326880" cy="291960"/>
          </a:xfrm>
        </p:grpSpPr>
        <p:sp>
          <p:nvSpPr>
            <p:cNvPr id="130" name=""/>
            <p:cNvSpPr/>
            <p:nvPr/>
          </p:nvSpPr>
          <p:spPr>
            <a:xfrm flipH="1">
              <a:off x="1923480" y="44211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8400" y="42386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5680" y="441648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72240" y="4722840"/>
            <a:ext cx="600120" cy="647280"/>
            <a:chOff x="7572240" y="4722840"/>
            <a:chExt cx="600120" cy="647280"/>
          </a:xfrm>
        </p:grpSpPr>
        <p:graphicFrame>
          <p:nvGraphicFramePr>
            <p:cNvPr id="134" name=""/>
            <p:cNvGraphicFramePr/>
            <p:nvPr/>
          </p:nvGraphicFramePr>
          <p:xfrm>
            <a:off x="7940520" y="4876560"/>
            <a:ext cx="195480" cy="342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40520" y="4876560"/>
                      <a:ext cx="1954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7824600" y="5141880"/>
              <a:ext cx="347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Zawawi"/>
                  <a:ea typeface="Zawawi"/>
                </a:rPr>
                <a:t>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72240" y="4722840"/>
              <a:ext cx="344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50000" y="4865760"/>
            <a:ext cx="326880" cy="291960"/>
            <a:chOff x="5850000" y="4865760"/>
            <a:chExt cx="326880" cy="291960"/>
          </a:xfrm>
        </p:grpSpPr>
        <p:sp>
          <p:nvSpPr>
            <p:cNvPr id="139" name=""/>
            <p:cNvSpPr/>
            <p:nvPr/>
          </p:nvSpPr>
          <p:spPr>
            <a:xfrm flipH="1">
              <a:off x="5905080" y="50482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50000" y="486576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50436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143680" y="4865760"/>
            <a:ext cx="326880" cy="291960"/>
            <a:chOff x="5143680" y="4865760"/>
            <a:chExt cx="326880" cy="291960"/>
          </a:xfrm>
        </p:grpSpPr>
        <p:sp>
          <p:nvSpPr>
            <p:cNvPr id="143" name=""/>
            <p:cNvSpPr/>
            <p:nvPr/>
          </p:nvSpPr>
          <p:spPr>
            <a:xfrm flipH="1">
              <a:off x="5198760" y="50482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3680" y="486576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60960" y="50436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975120" y="4865760"/>
            <a:ext cx="326880" cy="291960"/>
            <a:chOff x="3975120" y="4865760"/>
            <a:chExt cx="326880" cy="291960"/>
          </a:xfrm>
        </p:grpSpPr>
        <p:sp>
          <p:nvSpPr>
            <p:cNvPr id="147" name=""/>
            <p:cNvSpPr/>
            <p:nvPr/>
          </p:nvSpPr>
          <p:spPr>
            <a:xfrm flipH="1">
              <a:off x="4030200" y="50482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5120" y="486576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2400" y="50436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08200" y="4865760"/>
            <a:ext cx="326880" cy="291960"/>
            <a:chOff x="3508200" y="4865760"/>
            <a:chExt cx="326880" cy="291960"/>
          </a:xfrm>
        </p:grpSpPr>
        <p:sp>
          <p:nvSpPr>
            <p:cNvPr id="151" name=""/>
            <p:cNvSpPr/>
            <p:nvPr/>
          </p:nvSpPr>
          <p:spPr>
            <a:xfrm flipH="1">
              <a:off x="3563280" y="50482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8200" y="486576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5480" y="50436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59080" y="4865760"/>
            <a:ext cx="326880" cy="291960"/>
            <a:chOff x="2359080" y="4865760"/>
            <a:chExt cx="326880" cy="291960"/>
          </a:xfrm>
        </p:grpSpPr>
        <p:sp>
          <p:nvSpPr>
            <p:cNvPr id="155" name=""/>
            <p:cNvSpPr/>
            <p:nvPr/>
          </p:nvSpPr>
          <p:spPr>
            <a:xfrm flipH="1">
              <a:off x="2414160" y="50482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59080" y="486576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6360" y="50436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397480" y="5675400"/>
            <a:ext cx="326880" cy="291960"/>
            <a:chOff x="5397480" y="5675400"/>
            <a:chExt cx="326880" cy="291960"/>
          </a:xfrm>
        </p:grpSpPr>
        <p:sp>
          <p:nvSpPr>
            <p:cNvPr id="159" name=""/>
            <p:cNvSpPr/>
            <p:nvPr/>
          </p:nvSpPr>
          <p:spPr>
            <a:xfrm flipH="1">
              <a:off x="5452560" y="585792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7480" y="56754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4760" y="58532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714920" y="5675400"/>
            <a:ext cx="326880" cy="291960"/>
            <a:chOff x="4714920" y="5675400"/>
            <a:chExt cx="326880" cy="291960"/>
          </a:xfrm>
        </p:grpSpPr>
        <p:sp>
          <p:nvSpPr>
            <p:cNvPr id="163" name=""/>
            <p:cNvSpPr/>
            <p:nvPr/>
          </p:nvSpPr>
          <p:spPr>
            <a:xfrm flipH="1">
              <a:off x="4770000" y="585792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14920" y="567540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32200" y="58532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00400" y="5678640"/>
            <a:ext cx="326880" cy="291960"/>
            <a:chOff x="4100400" y="5678640"/>
            <a:chExt cx="326880" cy="291960"/>
          </a:xfrm>
        </p:grpSpPr>
        <p:sp>
          <p:nvSpPr>
            <p:cNvPr id="167" name=""/>
            <p:cNvSpPr/>
            <p:nvPr/>
          </p:nvSpPr>
          <p:spPr>
            <a:xfrm flipH="1">
              <a:off x="4155480" y="58611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567864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7680" y="5856480"/>
              <a:ext cx="309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1:50:37Z</dcterms:created>
  <dc:creator>أبوخالد</dc:creator>
  <dc:description/>
  <dc:language>en-US</dc:language>
  <cp:lastModifiedBy>أبوخالد</cp:lastModifiedBy>
  <dcterms:modified xsi:type="dcterms:W3CDTF">2004-04-11T13:20:53Z</dcterms:modified>
  <cp:revision>22</cp:revision>
  <dc:subject/>
  <dc:title>الشريحة 1</dc:title>
</cp:coreProperties>
</file>