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999-5B6D-4A11-A564-E8FA03CB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63D-EF44-425E-971A-FB119E48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083-0F5E-42C6-9043-6A5994CE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73D-2A91-46D5-9BF7-A169DFAA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B38-D6EA-4F09-861C-64FEC4FD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399-2A76-4418-9626-DBBCA0B3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A90-5330-42D4-960B-E416208A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C8B-36CF-48C3-8B0A-F14F7801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13A-259E-4E6A-B681-FDF60700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2DB-48FE-4A27-A2E5-2EAB17C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534-5BED-4266-A98B-A7110499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567-9C30-4CB9-933E-EF9B26ED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1732-11ED-4AF9-B1FF-547A977D9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5877000"/>
            <a:ext cx="3311640" cy="72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2:35:57Z</dcterms:created>
  <dc:creator>Windows3925580</dc:creator>
  <dc:description/>
  <dc:language>en-US</dc:language>
  <cp:lastModifiedBy>asus</cp:lastModifiedBy>
  <dcterms:modified xsi:type="dcterms:W3CDTF">2008-12-30T16:21:14Z</dcterms:modified>
  <cp:revision>5</cp:revision>
  <dc:subject/>
  <dc:title>الشريحة 1</dc:title>
</cp:coreProperties>
</file>