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50C8-7A14-4F22-AAA4-A3032DDE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2FF-D0C8-4F33-BC8E-6B086205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E8E0-F4C5-4058-B052-34D34B56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38B4-7DC3-4364-A88B-1313CDD8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3A05-A2C1-469F-92FF-F556DE6A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A76-F24A-4B23-B1B6-54E9E3B5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542-97FA-4ECC-B531-25733D75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59AE-3EBB-40CB-A273-9E91AFFE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EFD3-0CDE-43EF-9FF1-A82254F5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AF6B-4174-4582-AD41-926B369D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7CB6-1340-431D-90C3-81A3A717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77DE-2BC4-42BE-941B-ADFA524D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6D52-9393-4264-8B0D-F707EC6C61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قصة فصل الشتاء غلا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lightning_sm_wm"/>
          <p:cNvPicPr/>
          <p:nvPr/>
        </p:nvPicPr>
        <p:blipFill>
          <a:blip r:embed="rId2"/>
          <a:stretch/>
        </p:blipFill>
        <p:spPr>
          <a:xfrm>
            <a:off x="762120" y="4191120"/>
            <a:ext cx="3887640" cy="1600200"/>
          </a:xfrm>
          <a:prstGeom prst="rect">
            <a:avLst/>
          </a:prstGeom>
          <a:ln w="0">
            <a:noFill/>
          </a:ln>
        </p:spPr>
      </p:pic>
      <p:sp>
        <p:nvSpPr>
          <p:cNvPr id="43" name="مستطيل 5"/>
          <p:cNvSpPr/>
          <p:nvPr/>
        </p:nvSpPr>
        <p:spPr>
          <a:xfrm>
            <a:off x="1219320" y="5410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قصة ملابس الشتاء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خرجت حسناء مع أمها إلي محل بيع الملابس الشتوية لشراء ملابس شتوية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قصةملابس الشتاء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حسناء لم تعجبها هذه الملابس لأنها ثقلية وهي تريد ملابس قطنية خفيفة . قال لها البائع : نحن في فصل الشتاء نرتدي الملابس الثقلية كي تحمينا من البرد أما في فصل الصيف نرتدي الملابس الخفيف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قصة ملابس الشتاء 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وعندما عادت إلي المنزل ارتدت حسناء ملابس خفيفة وخرجت تلعب في فناء الدار مع صديقت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قصة ملابس الشتاء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وعندما حان موعد تناول العشاء أخذت تعطس بصورة متكررة قالت لها أمها :ألم أقل لكي بأنه يجب أن ترتدي ملابس شتوية كي تحميك من البرد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قصة ملابس الشتاء 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2060"/>
                </a:solidFill>
                <a:latin typeface="Arial"/>
              </a:rPr>
              <a:t>مرضت ولازمت الفراش عدة أيام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قصة ملابس الشتاء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اعتذرت لأمها وخرجت تلعب في فناء الدار</a:t>
            </a:r>
            <a:r>
              <a:rPr b="1" lang="ar-KW" sz="4800" spc="-1" strike="noStrike">
                <a:solidFill>
                  <a:srgbClr val="000000"/>
                </a:solidFill>
                <a:latin typeface="Arial"/>
              </a:rPr>
              <a:t> مرتديه ملابس مناسبه لفصل الشتا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14:32:25Z</dcterms:created>
  <dc:creator>MA</dc:creator>
  <dc:description/>
  <dc:language>en-US</dc:language>
  <cp:lastModifiedBy>Toshiba</cp:lastModifiedBy>
  <dcterms:modified xsi:type="dcterms:W3CDTF">2010-10-30T06:06:53Z</dcterms:modified>
  <cp:revision>10</cp:revision>
  <dc:subject/>
  <dc:title>قصة فصل الشتـــــــــــــــــــاء</dc:title>
</cp:coreProperties>
</file>